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6160" y="549360"/>
            <a:ext cx="762120" cy="1904400"/>
            <a:chOff x="776160" y="549360"/>
            <a:chExt cx="762120" cy="1904400"/>
          </a:xfrm>
        </p:grpSpPr>
        <p:sp>
          <p:nvSpPr>
            <p:cNvPr id="55" name=""/>
            <p:cNvSpPr/>
            <p:nvPr/>
          </p:nvSpPr>
          <p:spPr>
            <a:xfrm>
              <a:off x="928800" y="54936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5248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88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74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6160" y="1006200"/>
              <a:ext cx="152640" cy="6854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8600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592520" y="423360"/>
            <a:ext cx="1024920" cy="2030760"/>
            <a:chOff x="4592520" y="423360"/>
            <a:chExt cx="1024920" cy="2030760"/>
          </a:xfrm>
        </p:grpSpPr>
        <p:sp>
          <p:nvSpPr>
            <p:cNvPr id="62" name=""/>
            <p:cNvSpPr/>
            <p:nvPr/>
          </p:nvSpPr>
          <p:spPr>
            <a:xfrm>
              <a:off x="46688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45160" y="54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451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37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2600000">
              <a:off x="530352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92520" y="100620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59960" y="410760"/>
            <a:ext cx="1294200" cy="2043360"/>
            <a:chOff x="6159960" y="410760"/>
            <a:chExt cx="1294200" cy="2043360"/>
          </a:xfrm>
        </p:grpSpPr>
        <p:sp>
          <p:nvSpPr>
            <p:cNvPr id="69" name=""/>
            <p:cNvSpPr/>
            <p:nvPr/>
          </p:nvSpPr>
          <p:spPr>
            <a:xfrm>
              <a:off x="6505560" y="10062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1880" y="54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818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104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2600000">
              <a:off x="714024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9000000">
              <a:off x="6321240" y="40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0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37600" y="549360"/>
            <a:ext cx="762120" cy="1904400"/>
            <a:chOff x="8337600" y="549360"/>
            <a:chExt cx="762120" cy="1904400"/>
          </a:xfrm>
        </p:grpSpPr>
        <p:sp>
          <p:nvSpPr>
            <p:cNvPr id="76" name=""/>
            <p:cNvSpPr/>
            <p:nvPr/>
          </p:nvSpPr>
          <p:spPr>
            <a:xfrm>
              <a:off x="8337600" y="100620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90240" y="54936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1392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90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18840" y="169200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4744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415600" y="423360"/>
            <a:ext cx="1024200" cy="2030760"/>
            <a:chOff x="2415600" y="423360"/>
            <a:chExt cx="1024200" cy="2030760"/>
          </a:xfrm>
        </p:grpSpPr>
        <p:sp>
          <p:nvSpPr>
            <p:cNvPr id="83" name=""/>
            <p:cNvSpPr/>
            <p:nvPr/>
          </p:nvSpPr>
          <p:spPr>
            <a:xfrm flipH="1">
              <a:off x="27536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830320" y="54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585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8299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9000000">
              <a:off x="2576160" y="4150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287160" y="100620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6160" y="2708280"/>
            <a:ext cx="761760" cy="1752480"/>
            <a:chOff x="776160" y="2708280"/>
            <a:chExt cx="761760" cy="1752480"/>
          </a:xfrm>
        </p:grpSpPr>
        <p:sp>
          <p:nvSpPr>
            <p:cNvPr id="90" name=""/>
            <p:cNvSpPr/>
            <p:nvPr/>
          </p:nvSpPr>
          <p:spPr>
            <a:xfrm>
              <a:off x="776160" y="301284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8440" y="27082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2120" y="301284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28440" y="3698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57040" y="36986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85640" y="301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49600" y="2924280"/>
            <a:ext cx="761760" cy="1523880"/>
            <a:chOff x="2649600" y="2924280"/>
            <a:chExt cx="761760" cy="1523880"/>
          </a:xfrm>
        </p:grpSpPr>
        <p:sp>
          <p:nvSpPr>
            <p:cNvPr id="97" name=""/>
            <p:cNvSpPr/>
            <p:nvPr/>
          </p:nvSpPr>
          <p:spPr>
            <a:xfrm>
              <a:off x="2801880" y="29242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01880" y="36860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30480" y="36860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649600" y="3076560"/>
              <a:ext cx="761760" cy="609480"/>
              <a:chOff x="2649600" y="3076560"/>
              <a:chExt cx="76176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649600" y="307656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25560" y="307656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59080" y="307656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8337600" y="3141720"/>
            <a:ext cx="762120" cy="1219320"/>
            <a:chOff x="8337600" y="3141720"/>
            <a:chExt cx="762120" cy="1219320"/>
          </a:xfrm>
        </p:grpSpPr>
        <p:sp>
          <p:nvSpPr>
            <p:cNvPr id="105" name=""/>
            <p:cNvSpPr/>
            <p:nvPr/>
          </p:nvSpPr>
          <p:spPr>
            <a:xfrm>
              <a:off x="8490240" y="3141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3920" y="359892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02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188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37600" y="3598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47440" y="35989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99840" y="4508640"/>
            <a:ext cx="1028160" cy="1904400"/>
            <a:chOff x="699840" y="4508640"/>
            <a:chExt cx="1028160" cy="1904400"/>
          </a:xfrm>
        </p:grpSpPr>
        <p:sp>
          <p:nvSpPr>
            <p:cNvPr id="112" name=""/>
            <p:cNvSpPr/>
            <p:nvPr/>
          </p:nvSpPr>
          <p:spPr>
            <a:xfrm rot="900000">
              <a:off x="775800" y="496512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79200" y="450864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324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7920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07800" y="5651280"/>
              <a:ext cx="228600" cy="38088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0480 h 380880"/>
                <a:gd name="textAreaBottom" fmla="*/ 320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700000">
              <a:off x="1468440" y="494028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63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000000">
              <a:off x="1449000" y="508572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90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20520" y="4508640"/>
            <a:ext cx="762120" cy="1904400"/>
            <a:chOff x="2720520" y="4508640"/>
            <a:chExt cx="762120" cy="1904400"/>
          </a:xfrm>
        </p:grpSpPr>
        <p:sp>
          <p:nvSpPr>
            <p:cNvPr id="120" name=""/>
            <p:cNvSpPr/>
            <p:nvPr/>
          </p:nvSpPr>
          <p:spPr>
            <a:xfrm flipH="1">
              <a:off x="3330000" y="496548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72800" y="450864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79648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10104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872440" y="565128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20160" y="496548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521240" y="2637000"/>
            <a:ext cx="761760" cy="1752480"/>
            <a:chOff x="4521240" y="2637000"/>
            <a:chExt cx="761760" cy="1752480"/>
          </a:xfrm>
        </p:grpSpPr>
        <p:sp>
          <p:nvSpPr>
            <p:cNvPr id="127" name=""/>
            <p:cNvSpPr/>
            <p:nvPr/>
          </p:nvSpPr>
          <p:spPr>
            <a:xfrm flipH="1">
              <a:off x="5130360" y="2941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673520" y="2637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97200" y="29415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0176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7316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520880" y="2941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92880" y="2865600"/>
            <a:ext cx="761760" cy="1523880"/>
            <a:chOff x="6392880" y="2865600"/>
            <a:chExt cx="761760" cy="1523880"/>
          </a:xfrm>
        </p:grpSpPr>
        <p:sp>
          <p:nvSpPr>
            <p:cNvPr id="134" name=""/>
            <p:cNvSpPr/>
            <p:nvPr/>
          </p:nvSpPr>
          <p:spPr>
            <a:xfrm flipH="1">
              <a:off x="6545160" y="2865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7340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54480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92880" y="3017880"/>
              <a:ext cx="761760" cy="609480"/>
              <a:chOff x="6392880" y="3017880"/>
              <a:chExt cx="761760" cy="60948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7002000" y="301788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468840" y="301788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392520" y="301788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521240" y="4581360"/>
            <a:ext cx="761760" cy="1752840"/>
            <a:chOff x="4521240" y="4581360"/>
            <a:chExt cx="761760" cy="1752840"/>
          </a:xfrm>
        </p:grpSpPr>
        <p:sp>
          <p:nvSpPr>
            <p:cNvPr id="142" name=""/>
            <p:cNvSpPr/>
            <p:nvPr/>
          </p:nvSpPr>
          <p:spPr>
            <a:xfrm>
              <a:off x="4597200" y="4962600"/>
              <a:ext cx="609840" cy="60948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35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021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2124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072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73520" y="45813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65960" y="4809960"/>
            <a:ext cx="761400" cy="1524240"/>
            <a:chOff x="6465960" y="4809960"/>
            <a:chExt cx="761400" cy="1524240"/>
          </a:xfrm>
        </p:grpSpPr>
        <p:sp>
          <p:nvSpPr>
            <p:cNvPr id="149" name=""/>
            <p:cNvSpPr/>
            <p:nvPr/>
          </p:nvSpPr>
          <p:spPr>
            <a:xfrm>
              <a:off x="6541920" y="5038560"/>
              <a:ext cx="609120" cy="53352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78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64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5960" y="5038560"/>
              <a:ext cx="151920" cy="6098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75080" y="5038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7880" y="480996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337600" y="4962600"/>
            <a:ext cx="762120" cy="1371600"/>
            <a:chOff x="8337600" y="4962600"/>
            <a:chExt cx="762120" cy="1371600"/>
          </a:xfrm>
        </p:grpSpPr>
        <p:sp>
          <p:nvSpPr>
            <p:cNvPr id="156" name=""/>
            <p:cNvSpPr/>
            <p:nvPr/>
          </p:nvSpPr>
          <p:spPr>
            <a:xfrm>
              <a:off x="8413920" y="5038560"/>
              <a:ext cx="609480" cy="5335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902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188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37600" y="5038560"/>
              <a:ext cx="152640" cy="7113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47440" y="5038560"/>
              <a:ext cx="152280" cy="71136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90240" y="4962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33240" y="551160"/>
            <a:ext cx="1132560" cy="1979280"/>
            <a:chOff x="633240" y="551160"/>
            <a:chExt cx="1132560" cy="1979280"/>
          </a:xfrm>
        </p:grpSpPr>
        <p:sp>
          <p:nvSpPr>
            <p:cNvPr id="163" name=""/>
            <p:cNvSpPr/>
            <p:nvPr/>
          </p:nvSpPr>
          <p:spPr>
            <a:xfrm>
              <a:off x="892080" y="108252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80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66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3500000">
              <a:off x="1501200" y="82224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8100000">
              <a:off x="1393200" y="555120"/>
              <a:ext cx="151920" cy="3812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8100000">
              <a:off x="745200" y="8154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13500000">
              <a:off x="853200" y="5486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68040" y="62532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76520" y="620640"/>
            <a:ext cx="1196640" cy="1904760"/>
            <a:chOff x="2576520" y="620640"/>
            <a:chExt cx="1196640" cy="1904760"/>
          </a:xfrm>
        </p:grpSpPr>
        <p:sp>
          <p:nvSpPr>
            <p:cNvPr id="172" name=""/>
            <p:cNvSpPr/>
            <p:nvPr/>
          </p:nvSpPr>
          <p:spPr>
            <a:xfrm rot="12767400">
              <a:off x="3508920" y="929880"/>
              <a:ext cx="152280" cy="4572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60840 h 457200"/>
                <a:gd name="textAreaBottom" fmla="*/ 3963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232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000000">
              <a:off x="3318840" y="105372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90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28800" y="62064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52480" y="107784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88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74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520" y="1077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51480" y="2637000"/>
            <a:ext cx="892080" cy="1904400"/>
            <a:chOff x="4551480" y="2637000"/>
            <a:chExt cx="892080" cy="1904400"/>
          </a:xfrm>
        </p:grpSpPr>
        <p:sp>
          <p:nvSpPr>
            <p:cNvPr id="180" name=""/>
            <p:cNvSpPr/>
            <p:nvPr/>
          </p:nvSpPr>
          <p:spPr>
            <a:xfrm>
              <a:off x="4767120" y="263700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9116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671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957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814000">
              <a:off x="4592520" y="3103560"/>
              <a:ext cx="152640" cy="3805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6186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3500000">
              <a:off x="4767120" y="323316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786000">
              <a:off x="5249880" y="31035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6186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9000000">
              <a:off x="5103720" y="3192120"/>
              <a:ext cx="152640" cy="3801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160"/>
                <a:gd name="textAreaBottom" fmla="*/ 329760 h 3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265960" y="549360"/>
            <a:ext cx="975240" cy="1904400"/>
            <a:chOff x="8265960" y="549360"/>
            <a:chExt cx="975240" cy="1904400"/>
          </a:xfrm>
        </p:grpSpPr>
        <p:sp>
          <p:nvSpPr>
            <p:cNvPr id="189" name=""/>
            <p:cNvSpPr/>
            <p:nvPr/>
          </p:nvSpPr>
          <p:spPr>
            <a:xfrm rot="8100000">
              <a:off x="8906760" y="596160"/>
              <a:ext cx="152640" cy="4568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0840 h 456840"/>
                <a:gd name="textAreaBottom" fmla="*/ 3960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300000">
              <a:off x="8961480" y="85860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17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18240" y="54936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41920" y="100620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18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468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6596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286520" y="615600"/>
            <a:ext cx="1294920" cy="2043360"/>
            <a:chOff x="4286520" y="615600"/>
            <a:chExt cx="1294920" cy="2043360"/>
          </a:xfrm>
        </p:grpSpPr>
        <p:sp>
          <p:nvSpPr>
            <p:cNvPr id="197" name=""/>
            <p:cNvSpPr/>
            <p:nvPr/>
          </p:nvSpPr>
          <p:spPr>
            <a:xfrm>
              <a:off x="4632480" y="121104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08440" y="753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08440" y="18968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800000">
              <a:off x="5171760" y="1772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72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600000">
              <a:off x="5267160" y="619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000000">
              <a:off x="4447800" y="6076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0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60320" y="628200"/>
            <a:ext cx="1293840" cy="2007720"/>
            <a:chOff x="6160320" y="628200"/>
            <a:chExt cx="1293840" cy="2007720"/>
          </a:xfrm>
        </p:grpSpPr>
        <p:sp>
          <p:nvSpPr>
            <p:cNvPr id="204" name=""/>
            <p:cNvSpPr/>
            <p:nvPr/>
          </p:nvSpPr>
          <p:spPr>
            <a:xfrm>
              <a:off x="6505560" y="122400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81520" y="76680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900000">
              <a:off x="6451560" y="18568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800000">
              <a:off x="7044840" y="178560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72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2600000">
              <a:off x="7140600" y="63324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4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9000000">
              <a:off x="6321600" y="6202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0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216160" y="2565360"/>
            <a:ext cx="1676520" cy="1905120"/>
            <a:chOff x="2216160" y="2565360"/>
            <a:chExt cx="1676520" cy="1905120"/>
          </a:xfrm>
        </p:grpSpPr>
        <p:sp>
          <p:nvSpPr>
            <p:cNvPr id="211" name=""/>
            <p:cNvSpPr/>
            <p:nvPr/>
          </p:nvSpPr>
          <p:spPr>
            <a:xfrm>
              <a:off x="2368440" y="25653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24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8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70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16160" y="3022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700000">
              <a:off x="2901960" y="29905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63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82840" y="25653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68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28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11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900000">
              <a:off x="3054240" y="299088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0040" y="30225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33600" y="2568600"/>
            <a:ext cx="1132560" cy="1905120"/>
            <a:chOff x="633600" y="2568600"/>
            <a:chExt cx="1132560" cy="1905120"/>
          </a:xfrm>
        </p:grpSpPr>
        <p:grpSp>
          <p:nvGrpSpPr>
            <p:cNvPr id="224" name=""/>
            <p:cNvGrpSpPr/>
            <p:nvPr/>
          </p:nvGrpSpPr>
          <p:grpSpPr>
            <a:xfrm>
              <a:off x="633600" y="3029760"/>
              <a:ext cx="1132560" cy="649440"/>
              <a:chOff x="633600" y="3029760"/>
              <a:chExt cx="1132560" cy="649440"/>
            </a:xfrm>
          </p:grpSpPr>
          <p:sp>
            <p:nvSpPr>
              <p:cNvPr id="225" name=""/>
              <p:cNvSpPr/>
              <p:nvPr/>
            </p:nvSpPr>
            <p:spPr>
              <a:xfrm rot="2700000">
                <a:off x="745560" y="302760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00000">
                <a:off x="853560" y="32943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8900000">
                <a:off x="1501200" y="303336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rot="2700000">
                <a:off x="1392840" y="330012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92080" y="2568600"/>
              <a:ext cx="609840" cy="1905120"/>
              <a:chOff x="892080" y="2568600"/>
              <a:chExt cx="609840" cy="1905120"/>
            </a:xfrm>
          </p:grpSpPr>
          <p:sp>
            <p:nvSpPr>
              <p:cNvPr id="230" name=""/>
              <p:cNvSpPr/>
              <p:nvPr/>
            </p:nvSpPr>
            <p:spPr>
              <a:xfrm>
                <a:off x="9684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970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8400" y="25686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92080" y="302580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633960" y="4556160"/>
            <a:ext cx="1132560" cy="1905120"/>
            <a:chOff x="633960" y="4556160"/>
            <a:chExt cx="1132560" cy="1905120"/>
          </a:xfrm>
        </p:grpSpPr>
        <p:sp>
          <p:nvSpPr>
            <p:cNvPr id="235" name=""/>
            <p:cNvSpPr/>
            <p:nvPr/>
          </p:nvSpPr>
          <p:spPr>
            <a:xfrm>
              <a:off x="9684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70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68400" y="45561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700000">
              <a:off x="745920" y="50148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27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18900000">
              <a:off x="1501200" y="502092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27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92080" y="50133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900000">
              <a:off x="853560" y="528156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81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2700000">
              <a:off x="1393200" y="528768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81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720880" y="4584600"/>
            <a:ext cx="1033560" cy="1905120"/>
            <a:chOff x="2720880" y="4584600"/>
            <a:chExt cx="1033560" cy="1905120"/>
          </a:xfrm>
        </p:grpSpPr>
        <p:sp>
          <p:nvSpPr>
            <p:cNvPr id="244" name=""/>
            <p:cNvSpPr/>
            <p:nvPr/>
          </p:nvSpPr>
          <p:spPr>
            <a:xfrm>
              <a:off x="2836800" y="50418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31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417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339000" y="4647600"/>
              <a:ext cx="415440" cy="524520"/>
              <a:chOff x="3339000" y="4647600"/>
              <a:chExt cx="415440" cy="524520"/>
            </a:xfrm>
          </p:grpSpPr>
          <p:sp>
            <p:nvSpPr>
              <p:cNvPr id="248" name=""/>
              <p:cNvSpPr/>
              <p:nvPr/>
            </p:nvSpPr>
            <p:spPr>
              <a:xfrm rot="14264400">
                <a:off x="3464280" y="48153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2348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8619600">
                <a:off x="3504240" y="4655520"/>
                <a:ext cx="151920" cy="38124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7994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913120" y="4584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20880" y="50403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994360" y="2637000"/>
            <a:ext cx="1597320" cy="1889280"/>
            <a:chOff x="5994360" y="2637000"/>
            <a:chExt cx="1597320" cy="1889280"/>
          </a:xfrm>
        </p:grpSpPr>
        <p:grpSp>
          <p:nvGrpSpPr>
            <p:cNvPr id="253" name=""/>
            <p:cNvGrpSpPr/>
            <p:nvPr/>
          </p:nvGrpSpPr>
          <p:grpSpPr>
            <a:xfrm>
              <a:off x="7010640" y="2966400"/>
              <a:ext cx="581040" cy="480240"/>
              <a:chOff x="7010640" y="2966400"/>
              <a:chExt cx="581040" cy="480240"/>
            </a:xfrm>
          </p:grpSpPr>
          <p:sp>
            <p:nvSpPr>
              <p:cNvPr id="254" name=""/>
              <p:cNvSpPr/>
              <p:nvPr/>
            </p:nvSpPr>
            <p:spPr>
              <a:xfrm rot="12767400">
                <a:off x="7327800" y="2971080"/>
                <a:ext cx="152280" cy="45684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6840"/>
                  <a:gd name="textAreaBottom" fmla="*/ 3960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4232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8000000">
                <a:off x="7137360" y="309492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90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546960" y="263700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71280" y="3731400"/>
              <a:ext cx="837000" cy="794880"/>
              <a:chOff x="6371280" y="3731400"/>
              <a:chExt cx="837000" cy="794880"/>
            </a:xfrm>
          </p:grpSpPr>
          <p:sp>
            <p:nvSpPr>
              <p:cNvPr id="258" name=""/>
              <p:cNvSpPr/>
              <p:nvPr/>
            </p:nvSpPr>
            <p:spPr>
              <a:xfrm rot="900000">
                <a:off x="6465960" y="374796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4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00000">
                <a:off x="6885000" y="374760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994360" y="2964240"/>
              <a:ext cx="581040" cy="480960"/>
              <a:chOff x="5994360" y="2964240"/>
              <a:chExt cx="581040" cy="480960"/>
            </a:xfrm>
          </p:grpSpPr>
          <p:sp>
            <p:nvSpPr>
              <p:cNvPr id="261" name=""/>
              <p:cNvSpPr/>
              <p:nvPr/>
            </p:nvSpPr>
            <p:spPr>
              <a:xfrm flipH="1" rot="8832600">
                <a:off x="6105600" y="2968920"/>
                <a:ext cx="152280" cy="4572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7200"/>
                  <a:gd name="textAreaBottom" fmla="*/ 3963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4232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3600000">
                <a:off x="6296040" y="309348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90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8504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025480" y="2661840"/>
            <a:ext cx="1481400" cy="1791720"/>
            <a:chOff x="8025480" y="2661840"/>
            <a:chExt cx="1481400" cy="1791720"/>
          </a:xfrm>
        </p:grpSpPr>
        <p:grpSp>
          <p:nvGrpSpPr>
            <p:cNvPr id="265" name=""/>
            <p:cNvGrpSpPr/>
            <p:nvPr/>
          </p:nvGrpSpPr>
          <p:grpSpPr>
            <a:xfrm>
              <a:off x="8025480" y="3658680"/>
              <a:ext cx="837000" cy="794880"/>
              <a:chOff x="8025480" y="3658680"/>
              <a:chExt cx="837000" cy="794880"/>
            </a:xfrm>
          </p:grpSpPr>
          <p:sp>
            <p:nvSpPr>
              <p:cNvPr id="266" name=""/>
              <p:cNvSpPr/>
              <p:nvPr/>
            </p:nvSpPr>
            <p:spPr>
              <a:xfrm rot="900000">
                <a:off x="8120160" y="367524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4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700000">
                <a:off x="8539200" y="367488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124840" y="2661840"/>
              <a:ext cx="1382040" cy="1263960"/>
              <a:chOff x="8124840" y="2661840"/>
              <a:chExt cx="1382040" cy="12639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900280" y="3354480"/>
                <a:ext cx="606600" cy="405720"/>
                <a:chOff x="8900280" y="3354480"/>
                <a:chExt cx="606600" cy="405720"/>
              </a:xfrm>
            </p:grpSpPr>
            <p:sp>
              <p:nvSpPr>
                <p:cNvPr id="270" name=""/>
                <p:cNvSpPr/>
                <p:nvPr/>
              </p:nvSpPr>
              <p:spPr>
                <a:xfrm rot="14567400">
                  <a:off x="9192600" y="3349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fefefe"/>
                    </a:gs>
                  </a:gsLst>
                  <a:lin ang="14232000"/>
                </a:gra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800000">
                  <a:off x="8985240" y="336672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fefefe"/>
                    </a:gs>
                  </a:gsLst>
                  <a:lin ang="9000000"/>
                </a:gra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rot="1800000">
                <a:off x="8663400" y="27453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8124840" y="2734200"/>
                <a:ext cx="398880" cy="477360"/>
                <a:chOff x="8124840" y="2734200"/>
                <a:chExt cx="398880" cy="4773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 rot="10632600">
                  <a:off x="8135640" y="2737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fefefe"/>
                    </a:gs>
                  </a:gsLst>
                  <a:lin ang="14232000"/>
                </a:gra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5400000">
                  <a:off x="8256960" y="294480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fefefe"/>
                    </a:gs>
                  </a:gsLst>
                  <a:lin ang="9000000"/>
                </a:gra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1800000">
                <a:off x="8313840" y="313308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557960" y="4687920"/>
            <a:ext cx="812520" cy="1663560"/>
            <a:chOff x="4557960" y="4687920"/>
            <a:chExt cx="812520" cy="1663560"/>
          </a:xfrm>
        </p:grpSpPr>
        <p:sp>
          <p:nvSpPr>
            <p:cNvPr id="278" name=""/>
            <p:cNvSpPr/>
            <p:nvPr/>
          </p:nvSpPr>
          <p:spPr>
            <a:xfrm>
              <a:off x="47242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5048280"/>
              <a:ext cx="609480" cy="6127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81360 h 612720"/>
                <a:gd name="textAreaBottom" fmla="*/ 5313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970880" y="5017320"/>
              <a:ext cx="399600" cy="639720"/>
              <a:chOff x="4970880" y="5017320"/>
              <a:chExt cx="399600" cy="639720"/>
            </a:xfrm>
          </p:grpSpPr>
          <p:sp>
            <p:nvSpPr>
              <p:cNvPr id="282" name=""/>
              <p:cNvSpPr/>
              <p:nvPr/>
            </p:nvSpPr>
            <p:spPr>
              <a:xfrm flipH="1" rot="20700000">
                <a:off x="5171040" y="50302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2700000">
                <a:off x="508284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557960" y="5017320"/>
              <a:ext cx="399240" cy="639720"/>
              <a:chOff x="4557960" y="5017320"/>
              <a:chExt cx="399240" cy="639720"/>
            </a:xfrm>
          </p:grpSpPr>
          <p:sp>
            <p:nvSpPr>
              <p:cNvPr id="285" name=""/>
              <p:cNvSpPr/>
              <p:nvPr/>
            </p:nvSpPr>
            <p:spPr>
              <a:xfrm rot="900000">
                <a:off x="4604040" y="503028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900000">
                <a:off x="469260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724280" y="46879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29240" y="4941720"/>
            <a:ext cx="812880" cy="1409760"/>
            <a:chOff x="6429240" y="4941720"/>
            <a:chExt cx="812880" cy="1409760"/>
          </a:xfrm>
        </p:grpSpPr>
        <p:sp>
          <p:nvSpPr>
            <p:cNvPr id="289" name=""/>
            <p:cNvSpPr/>
            <p:nvPr/>
          </p:nvSpPr>
          <p:spPr>
            <a:xfrm>
              <a:off x="65959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245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19960" y="5157720"/>
              <a:ext cx="609480" cy="50328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66960 h 503280"/>
                <a:gd name="textAreaBottom" fmla="*/ 436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842880" y="5177520"/>
              <a:ext cx="399240" cy="639720"/>
              <a:chOff x="6842880" y="5177520"/>
              <a:chExt cx="399240" cy="639720"/>
            </a:xfrm>
          </p:grpSpPr>
          <p:sp>
            <p:nvSpPr>
              <p:cNvPr id="293" name=""/>
              <p:cNvSpPr/>
              <p:nvPr/>
            </p:nvSpPr>
            <p:spPr>
              <a:xfrm flipH="1" rot="20700000">
                <a:off x="704304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2700000">
                <a:off x="695484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429240" y="5177520"/>
              <a:ext cx="399600" cy="639360"/>
              <a:chOff x="6429240" y="5177520"/>
              <a:chExt cx="399600" cy="639360"/>
            </a:xfrm>
          </p:grpSpPr>
          <p:sp>
            <p:nvSpPr>
              <p:cNvPr id="296" name=""/>
              <p:cNvSpPr/>
              <p:nvPr/>
            </p:nvSpPr>
            <p:spPr>
              <a:xfrm rot="900000">
                <a:off x="647568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8900000">
                <a:off x="656388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595920" y="4941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315640" y="5157720"/>
            <a:ext cx="812520" cy="1193760"/>
            <a:chOff x="8315640" y="5157720"/>
            <a:chExt cx="812520" cy="1193760"/>
          </a:xfrm>
        </p:grpSpPr>
        <p:sp>
          <p:nvSpPr>
            <p:cNvPr id="300" name=""/>
            <p:cNvSpPr/>
            <p:nvPr/>
          </p:nvSpPr>
          <p:spPr>
            <a:xfrm>
              <a:off x="84819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105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05640" y="5300640"/>
              <a:ext cx="609840" cy="433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57600 h 433440"/>
                <a:gd name="textAreaBottom" fmla="*/ 3758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8728560" y="5271480"/>
              <a:ext cx="399600" cy="639720"/>
              <a:chOff x="8728560" y="5271480"/>
              <a:chExt cx="399600" cy="639720"/>
            </a:xfrm>
          </p:grpSpPr>
          <p:sp>
            <p:nvSpPr>
              <p:cNvPr id="304" name=""/>
              <p:cNvSpPr/>
              <p:nvPr/>
            </p:nvSpPr>
            <p:spPr>
              <a:xfrm flipH="1" rot="20700000">
                <a:off x="8928720" y="528444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2700000">
                <a:off x="884052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8315640" y="5271480"/>
              <a:ext cx="399240" cy="639720"/>
              <a:chOff x="8315640" y="5271480"/>
              <a:chExt cx="399240" cy="639720"/>
            </a:xfrm>
          </p:grpSpPr>
          <p:sp>
            <p:nvSpPr>
              <p:cNvPr id="307" name=""/>
              <p:cNvSpPr/>
              <p:nvPr/>
            </p:nvSpPr>
            <p:spPr>
              <a:xfrm rot="900000">
                <a:off x="8361720" y="528444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2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8900000">
                <a:off x="845028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63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8481960" y="5157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6198480" y="765000"/>
            <a:ext cx="1253880" cy="1731240"/>
            <a:chOff x="6198480" y="765000"/>
            <a:chExt cx="1253880" cy="1731240"/>
          </a:xfrm>
        </p:grpSpPr>
        <p:grpSp>
          <p:nvGrpSpPr>
            <p:cNvPr id="311" name=""/>
            <p:cNvGrpSpPr/>
            <p:nvPr/>
          </p:nvGrpSpPr>
          <p:grpSpPr>
            <a:xfrm>
              <a:off x="6411600" y="1776600"/>
              <a:ext cx="400320" cy="719640"/>
              <a:chOff x="6411600" y="1776600"/>
              <a:chExt cx="400320" cy="719640"/>
            </a:xfrm>
          </p:grpSpPr>
          <p:sp>
            <p:nvSpPr>
              <p:cNvPr id="312" name=""/>
              <p:cNvSpPr/>
              <p:nvPr/>
            </p:nvSpPr>
            <p:spPr>
              <a:xfrm rot="1800000">
                <a:off x="6497280" y="18064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800000">
                <a:off x="6529320" y="207288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792480" y="1137960"/>
              <a:ext cx="630000" cy="469080"/>
              <a:chOff x="6792480" y="1137960"/>
              <a:chExt cx="630000" cy="469080"/>
            </a:xfrm>
          </p:grpSpPr>
          <p:sp>
            <p:nvSpPr>
              <p:cNvPr id="315" name=""/>
              <p:cNvSpPr/>
              <p:nvPr/>
            </p:nvSpPr>
            <p:spPr>
              <a:xfrm rot="18900000">
                <a:off x="7166160" y="121896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4400000">
                <a:off x="6900120" y="112752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472080" y="765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336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198480" y="1180080"/>
              <a:ext cx="629280" cy="468720"/>
              <a:chOff x="6198480" y="1180080"/>
              <a:chExt cx="629280" cy="468720"/>
            </a:xfrm>
          </p:grpSpPr>
          <p:sp>
            <p:nvSpPr>
              <p:cNvPr id="320" name=""/>
              <p:cNvSpPr/>
              <p:nvPr/>
            </p:nvSpPr>
            <p:spPr>
              <a:xfrm rot="8100000">
                <a:off x="6319440" y="1169280"/>
                <a:ext cx="134640" cy="398520"/>
              </a:xfrm>
              <a:custGeom>
                <a:avLst/>
                <a:gdLst>
                  <a:gd name="textAreaLeft" fmla="*/ 17640 w 134640"/>
                  <a:gd name="textAreaRight" fmla="*/ 117000 w 13464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600000">
                <a:off x="6540840" y="130716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rot="18900000">
              <a:off x="6859080" y="1753560"/>
              <a:ext cx="228600" cy="4050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81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5300000">
              <a:off x="7142760" y="1860840"/>
              <a:ext cx="180720" cy="405000"/>
            </a:xfrm>
            <a:custGeom>
              <a:avLst/>
              <a:gdLst>
                <a:gd name="textAreaLeft" fmla="*/ 28800 w 180720"/>
                <a:gd name="textAreaRight" fmla="*/ 151920 w 18072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17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360520" y="3716280"/>
            <a:ext cx="1425600" cy="693360"/>
            <a:chOff x="2360520" y="3716280"/>
            <a:chExt cx="1425600" cy="693360"/>
          </a:xfrm>
        </p:grpSpPr>
        <p:sp>
          <p:nvSpPr>
            <p:cNvPr id="325" name=""/>
            <p:cNvSpPr/>
            <p:nvPr/>
          </p:nvSpPr>
          <p:spPr>
            <a:xfrm rot="16200000">
              <a:off x="2360520" y="37497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295092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00000">
              <a:off x="279504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264744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4620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349308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79800" y="1341360"/>
            <a:ext cx="1722600" cy="704880"/>
            <a:chOff x="379800" y="1341360"/>
            <a:chExt cx="1722600" cy="704880"/>
          </a:xfrm>
        </p:grpSpPr>
        <p:sp>
          <p:nvSpPr>
            <p:cNvPr id="332" name=""/>
            <p:cNvSpPr/>
            <p:nvPr/>
          </p:nvSpPr>
          <p:spPr>
            <a:xfrm rot="16200000">
              <a:off x="417600" y="13413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98244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79800" y="1657800"/>
              <a:ext cx="592200" cy="388440"/>
              <a:chOff x="379800" y="1657800"/>
              <a:chExt cx="592200" cy="388440"/>
            </a:xfrm>
          </p:grpSpPr>
          <p:sp>
            <p:nvSpPr>
              <p:cNvPr id="335" name=""/>
              <p:cNvSpPr/>
              <p:nvPr/>
            </p:nvSpPr>
            <p:spPr>
              <a:xfrm rot="3600000">
                <a:off x="68508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4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100000">
                <a:off x="50076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1384200" y="1384560"/>
              <a:ext cx="718200" cy="439560"/>
              <a:chOff x="1384200" y="1384560"/>
              <a:chExt cx="718200" cy="439560"/>
            </a:xfrm>
          </p:grpSpPr>
          <p:sp>
            <p:nvSpPr>
              <p:cNvPr id="338" name=""/>
              <p:cNvSpPr/>
              <p:nvPr/>
            </p:nvSpPr>
            <p:spPr>
              <a:xfrm flipV="1" rot="2904600">
                <a:off x="1496880" y="1401840"/>
                <a:ext cx="228600" cy="40428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404600">
                <a:off x="1804320" y="132804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0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55960" y="3500280"/>
            <a:ext cx="2011320" cy="554040"/>
            <a:chOff x="255960" y="3500280"/>
            <a:chExt cx="2011320" cy="554040"/>
          </a:xfrm>
        </p:grpSpPr>
        <p:sp>
          <p:nvSpPr>
            <p:cNvPr id="341" name=""/>
            <p:cNvSpPr/>
            <p:nvPr/>
          </p:nvSpPr>
          <p:spPr>
            <a:xfrm rot="16200000">
              <a:off x="415800" y="35002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982440" y="3439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55960" y="3780720"/>
              <a:ext cx="718200" cy="273600"/>
              <a:chOff x="255960" y="3780720"/>
              <a:chExt cx="718200" cy="273600"/>
            </a:xfrm>
          </p:grpSpPr>
          <p:sp>
            <p:nvSpPr>
              <p:cNvPr id="344" name=""/>
              <p:cNvSpPr/>
              <p:nvPr/>
            </p:nvSpPr>
            <p:spPr>
              <a:xfrm rot="4393200">
                <a:off x="689760" y="374112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5754000">
                <a:off x="393480" y="375048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438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V="1" rot="5809200">
              <a:off x="1585080" y="3627360"/>
              <a:ext cx="228600" cy="4050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1208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404000">
              <a:off x="1968840" y="367668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596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232680" y="3141720"/>
            <a:ext cx="849240" cy="1197720"/>
            <a:chOff x="6232680" y="3141720"/>
            <a:chExt cx="849240" cy="1197720"/>
          </a:xfrm>
        </p:grpSpPr>
        <p:sp>
          <p:nvSpPr>
            <p:cNvPr id="349" name=""/>
            <p:cNvSpPr/>
            <p:nvPr/>
          </p:nvSpPr>
          <p:spPr>
            <a:xfrm>
              <a:off x="6591240" y="3141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6288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532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232680" y="3862080"/>
              <a:ext cx="616680" cy="447480"/>
              <a:chOff x="6232680" y="3862080"/>
              <a:chExt cx="616680" cy="447480"/>
            </a:xfrm>
          </p:grpSpPr>
          <p:sp>
            <p:nvSpPr>
              <p:cNvPr id="353" name=""/>
              <p:cNvSpPr/>
              <p:nvPr/>
            </p:nvSpPr>
            <p:spPr>
              <a:xfrm rot="8100000">
                <a:off x="651132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700000">
                <a:off x="63493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1800000">
              <a:off x="6681960" y="3933720"/>
              <a:ext cx="134640" cy="39852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36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392000" y="4654800"/>
            <a:ext cx="1238040" cy="1634400"/>
            <a:chOff x="4392000" y="4654800"/>
            <a:chExt cx="1238040" cy="1634400"/>
          </a:xfrm>
        </p:grpSpPr>
        <p:sp>
          <p:nvSpPr>
            <p:cNvPr id="357" name=""/>
            <p:cNvSpPr/>
            <p:nvPr/>
          </p:nvSpPr>
          <p:spPr>
            <a:xfrm>
              <a:off x="4708440" y="518616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3500000">
              <a:off x="5317920" y="49251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8100000">
              <a:off x="5209920" y="465876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8100000">
              <a:off x="4562280" y="49190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13500000">
              <a:off x="4670280" y="465264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84760" y="4728960"/>
              <a:ext cx="457200" cy="4568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392000" y="5652000"/>
              <a:ext cx="464400" cy="637200"/>
              <a:chOff x="4392000" y="5652000"/>
              <a:chExt cx="464400" cy="637200"/>
            </a:xfrm>
          </p:grpSpPr>
          <p:sp>
            <p:nvSpPr>
              <p:cNvPr id="364" name=""/>
              <p:cNvSpPr/>
              <p:nvPr/>
            </p:nvSpPr>
            <p:spPr>
              <a:xfrm rot="3600000">
                <a:off x="4509720" y="564948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07840" y="588456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165280" y="5652000"/>
              <a:ext cx="464760" cy="637200"/>
              <a:chOff x="5165280" y="5652000"/>
              <a:chExt cx="464760" cy="637200"/>
            </a:xfrm>
          </p:grpSpPr>
          <p:sp>
            <p:nvSpPr>
              <p:cNvPr id="367" name=""/>
              <p:cNvSpPr/>
              <p:nvPr/>
            </p:nvSpPr>
            <p:spPr>
              <a:xfrm flipH="1" rot="18000000">
                <a:off x="5283000" y="5649480"/>
                <a:ext cx="228240" cy="40500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432760" y="5884560"/>
                <a:ext cx="181080" cy="40464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6201720" y="4729320"/>
            <a:ext cx="1238040" cy="1560240"/>
            <a:chOff x="6201720" y="4729320"/>
            <a:chExt cx="1238040" cy="1560240"/>
          </a:xfrm>
        </p:grpSpPr>
        <p:sp>
          <p:nvSpPr>
            <p:cNvPr id="370" name=""/>
            <p:cNvSpPr/>
            <p:nvPr/>
          </p:nvSpPr>
          <p:spPr>
            <a:xfrm>
              <a:off x="651816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94480" y="4729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201720" y="5652360"/>
              <a:ext cx="464400" cy="637200"/>
              <a:chOff x="6201720" y="5652360"/>
              <a:chExt cx="464400" cy="637200"/>
            </a:xfrm>
          </p:grpSpPr>
          <p:sp>
            <p:nvSpPr>
              <p:cNvPr id="373" name=""/>
              <p:cNvSpPr/>
              <p:nvPr/>
            </p:nvSpPr>
            <p:spPr>
              <a:xfrm rot="3600000">
                <a:off x="631944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1756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975360" y="5652360"/>
              <a:ext cx="464400" cy="637200"/>
              <a:chOff x="6975360" y="5652360"/>
              <a:chExt cx="464400" cy="637200"/>
            </a:xfrm>
          </p:grpSpPr>
          <p:sp>
            <p:nvSpPr>
              <p:cNvPr id="376" name=""/>
              <p:cNvSpPr/>
              <p:nvPr/>
            </p:nvSpPr>
            <p:spPr>
              <a:xfrm flipH="1" rot="18000000">
                <a:off x="709308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24320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934320" y="5188320"/>
              <a:ext cx="485280" cy="644040"/>
              <a:chOff x="6934320" y="5188320"/>
              <a:chExt cx="485280" cy="644040"/>
            </a:xfrm>
          </p:grpSpPr>
          <p:sp>
            <p:nvSpPr>
              <p:cNvPr id="379" name=""/>
              <p:cNvSpPr/>
              <p:nvPr/>
            </p:nvSpPr>
            <p:spPr>
              <a:xfrm flipH="1" rot="18900000">
                <a:off x="7154280" y="51861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2700000">
                <a:off x="7046280" y="545328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250680" y="5189040"/>
              <a:ext cx="484920" cy="642960"/>
              <a:chOff x="6250680" y="5189040"/>
              <a:chExt cx="484920" cy="642960"/>
            </a:xfrm>
          </p:grpSpPr>
          <p:sp>
            <p:nvSpPr>
              <p:cNvPr id="382" name=""/>
              <p:cNvSpPr/>
              <p:nvPr/>
            </p:nvSpPr>
            <p:spPr>
              <a:xfrm rot="2700000">
                <a:off x="6362640" y="51868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8900000">
                <a:off x="6471000" y="54529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8481960" y="4508640"/>
            <a:ext cx="457200" cy="1938240"/>
            <a:chOff x="8481960" y="4508640"/>
            <a:chExt cx="457200" cy="1938240"/>
          </a:xfrm>
        </p:grpSpPr>
        <p:sp>
          <p:nvSpPr>
            <p:cNvPr id="385" name=""/>
            <p:cNvSpPr/>
            <p:nvPr/>
          </p:nvSpPr>
          <p:spPr>
            <a:xfrm>
              <a:off x="8481960" y="4508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99600" y="496584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94640" y="56851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32800" y="50371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591640" y="4729320"/>
            <a:ext cx="846000" cy="1562400"/>
            <a:chOff x="2591640" y="4729320"/>
            <a:chExt cx="846000" cy="1562400"/>
          </a:xfrm>
        </p:grpSpPr>
        <p:sp>
          <p:nvSpPr>
            <p:cNvPr id="390" name=""/>
            <p:cNvSpPr/>
            <p:nvPr/>
          </p:nvSpPr>
          <p:spPr>
            <a:xfrm>
              <a:off x="276372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40040" y="4729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591640" y="5653800"/>
              <a:ext cx="464760" cy="637920"/>
              <a:chOff x="2591640" y="5653800"/>
              <a:chExt cx="464760" cy="637920"/>
            </a:xfrm>
          </p:grpSpPr>
          <p:sp>
            <p:nvSpPr>
              <p:cNvPr id="393" name=""/>
              <p:cNvSpPr/>
              <p:nvPr/>
            </p:nvSpPr>
            <p:spPr>
              <a:xfrm rot="3600000">
                <a:off x="2709360" y="5651280"/>
                <a:ext cx="228600" cy="40464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0748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880720" y="5652360"/>
              <a:ext cx="464400" cy="637200"/>
              <a:chOff x="2880720" y="5652360"/>
              <a:chExt cx="464400" cy="637200"/>
            </a:xfrm>
          </p:grpSpPr>
          <p:sp>
            <p:nvSpPr>
              <p:cNvPr id="396" name=""/>
              <p:cNvSpPr/>
              <p:nvPr/>
            </p:nvSpPr>
            <p:spPr>
              <a:xfrm rot="3600000">
                <a:off x="299844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9656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794680" y="5051520"/>
              <a:ext cx="642960" cy="484920"/>
              <a:chOff x="2794680" y="5051520"/>
              <a:chExt cx="642960" cy="484920"/>
            </a:xfrm>
          </p:grpSpPr>
          <p:sp>
            <p:nvSpPr>
              <p:cNvPr id="399" name=""/>
              <p:cNvSpPr/>
              <p:nvPr/>
            </p:nvSpPr>
            <p:spPr>
              <a:xfrm flipH="1" rot="2700000">
                <a:off x="3172680" y="5157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8100000">
                <a:off x="2906640" y="5049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628360" y="5193000"/>
              <a:ext cx="611280" cy="407160"/>
              <a:chOff x="2628360" y="5193000"/>
              <a:chExt cx="611280" cy="407160"/>
            </a:xfrm>
          </p:grpSpPr>
          <p:sp>
            <p:nvSpPr>
              <p:cNvPr id="402" name=""/>
              <p:cNvSpPr/>
              <p:nvPr/>
            </p:nvSpPr>
            <p:spPr>
              <a:xfrm rot="20700000">
                <a:off x="267480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5300000">
                <a:off x="2959560" y="5245920"/>
                <a:ext cx="152640" cy="38052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8015760" y="739800"/>
            <a:ext cx="1443960" cy="1511640"/>
            <a:chOff x="8015760" y="739800"/>
            <a:chExt cx="1443960" cy="1511640"/>
          </a:xfrm>
        </p:grpSpPr>
        <p:grpSp>
          <p:nvGrpSpPr>
            <p:cNvPr id="405" name=""/>
            <p:cNvGrpSpPr/>
            <p:nvPr/>
          </p:nvGrpSpPr>
          <p:grpSpPr>
            <a:xfrm>
              <a:off x="8015760" y="1675080"/>
              <a:ext cx="546840" cy="576360"/>
              <a:chOff x="8015760" y="1675080"/>
              <a:chExt cx="546840" cy="576360"/>
            </a:xfrm>
          </p:grpSpPr>
          <p:sp>
            <p:nvSpPr>
              <p:cNvPr id="406" name=""/>
              <p:cNvSpPr/>
              <p:nvPr/>
            </p:nvSpPr>
            <p:spPr>
              <a:xfrm rot="4500000">
                <a:off x="8223120" y="1635480"/>
                <a:ext cx="228600" cy="40464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900000">
                <a:off x="8064720" y="18295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8815680" y="1170360"/>
              <a:ext cx="446760" cy="520560"/>
              <a:chOff x="8815680" y="1170360"/>
              <a:chExt cx="446760" cy="520560"/>
            </a:xfrm>
          </p:grpSpPr>
          <p:sp>
            <p:nvSpPr>
              <p:cNvPr id="409" name=""/>
              <p:cNvSpPr/>
              <p:nvPr/>
            </p:nvSpPr>
            <p:spPr>
              <a:xfrm rot="20700000">
                <a:off x="9077760" y="12816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200000">
                <a:off x="8902080" y="108360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8408880" y="739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80160" y="11970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8094960" y="882360"/>
              <a:ext cx="446760" cy="520560"/>
              <a:chOff x="8094960" y="882360"/>
              <a:chExt cx="446760" cy="520560"/>
            </a:xfrm>
          </p:grpSpPr>
          <p:sp>
            <p:nvSpPr>
              <p:cNvPr id="414" name=""/>
              <p:cNvSpPr/>
              <p:nvPr/>
            </p:nvSpPr>
            <p:spPr>
              <a:xfrm rot="9900000">
                <a:off x="8144280" y="8928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8275680" y="113688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8728200" y="1675800"/>
              <a:ext cx="731520" cy="416160"/>
              <a:chOff x="8728200" y="1675800"/>
              <a:chExt cx="731520" cy="416160"/>
            </a:xfrm>
          </p:grpSpPr>
          <p:sp>
            <p:nvSpPr>
              <p:cNvPr id="417" name=""/>
              <p:cNvSpPr/>
              <p:nvPr/>
            </p:nvSpPr>
            <p:spPr>
              <a:xfrm rot="18000000">
                <a:off x="8846280" y="1673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4400000">
                <a:off x="9148680" y="170964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2323080" y="1178640"/>
            <a:ext cx="1757160" cy="867600"/>
            <a:chOff x="2323080" y="1178640"/>
            <a:chExt cx="1757160" cy="867600"/>
          </a:xfrm>
        </p:grpSpPr>
        <p:sp>
          <p:nvSpPr>
            <p:cNvPr id="420" name=""/>
            <p:cNvSpPr/>
            <p:nvPr/>
          </p:nvSpPr>
          <p:spPr>
            <a:xfrm rot="16200000">
              <a:off x="2360520" y="13413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292572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323080" y="1657800"/>
              <a:ext cx="592200" cy="388440"/>
              <a:chOff x="2323080" y="1657800"/>
              <a:chExt cx="592200" cy="388440"/>
            </a:xfrm>
          </p:grpSpPr>
          <p:sp>
            <p:nvSpPr>
              <p:cNvPr id="423" name=""/>
              <p:cNvSpPr/>
              <p:nvPr/>
            </p:nvSpPr>
            <p:spPr>
              <a:xfrm rot="3600000">
                <a:off x="262836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4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8100000">
                <a:off x="244404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 flipV="1" rot="2663400">
              <a:off x="3439800" y="140076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8064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4400000">
              <a:off x="3769200" y="11559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26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232160" y="3716280"/>
            <a:ext cx="1425600" cy="693360"/>
            <a:chOff x="4232160" y="3716280"/>
            <a:chExt cx="1425600" cy="693360"/>
          </a:xfrm>
        </p:grpSpPr>
        <p:sp>
          <p:nvSpPr>
            <p:cNvPr id="428" name=""/>
            <p:cNvSpPr/>
            <p:nvPr/>
          </p:nvSpPr>
          <p:spPr>
            <a:xfrm flipH="1" rot="5400000">
              <a:off x="5200560" y="37497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rot="5400000">
              <a:off x="464760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rot="20700000">
              <a:off x="504324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rot="16200000">
              <a:off x="523548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44312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rot="5400000">
              <a:off x="434376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12080" y="4729320"/>
            <a:ext cx="846360" cy="1562400"/>
            <a:chOff x="712080" y="4729320"/>
            <a:chExt cx="846360" cy="1562400"/>
          </a:xfrm>
        </p:grpSpPr>
        <p:sp>
          <p:nvSpPr>
            <p:cNvPr id="435" name=""/>
            <p:cNvSpPr/>
            <p:nvPr/>
          </p:nvSpPr>
          <p:spPr>
            <a:xfrm flipH="1">
              <a:off x="77616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52480" y="4729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093320" y="5653800"/>
              <a:ext cx="465120" cy="637920"/>
              <a:chOff x="1093320" y="5653800"/>
              <a:chExt cx="465120" cy="637920"/>
            </a:xfrm>
          </p:grpSpPr>
          <p:sp>
            <p:nvSpPr>
              <p:cNvPr id="438" name=""/>
              <p:cNvSpPr/>
              <p:nvPr/>
            </p:nvSpPr>
            <p:spPr>
              <a:xfrm flipH="1" rot="18000000">
                <a:off x="1211400" y="5651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36152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804600" y="5652360"/>
              <a:ext cx="464400" cy="637200"/>
              <a:chOff x="804600" y="5652360"/>
              <a:chExt cx="464400" cy="637200"/>
            </a:xfrm>
          </p:grpSpPr>
          <p:sp>
            <p:nvSpPr>
              <p:cNvPr id="441" name=""/>
              <p:cNvSpPr/>
              <p:nvPr/>
            </p:nvSpPr>
            <p:spPr>
              <a:xfrm flipH="1" rot="18000000">
                <a:off x="92232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07244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17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712080" y="5051520"/>
              <a:ext cx="642960" cy="484920"/>
              <a:chOff x="712080" y="5051520"/>
              <a:chExt cx="642960" cy="484920"/>
            </a:xfrm>
          </p:grpSpPr>
          <p:sp>
            <p:nvSpPr>
              <p:cNvPr id="444" name=""/>
              <p:cNvSpPr/>
              <p:nvPr/>
            </p:nvSpPr>
            <p:spPr>
              <a:xfrm rot="18900000">
                <a:off x="824400" y="5157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00000">
                <a:off x="1090440" y="5049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910080" y="5193000"/>
              <a:ext cx="611280" cy="407160"/>
              <a:chOff x="910080" y="5193000"/>
              <a:chExt cx="611280" cy="407160"/>
            </a:xfrm>
          </p:grpSpPr>
          <p:sp>
            <p:nvSpPr>
              <p:cNvPr id="447" name=""/>
              <p:cNvSpPr/>
              <p:nvPr/>
            </p:nvSpPr>
            <p:spPr>
              <a:xfrm flipH="1" rot="900000">
                <a:off x="132228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rot="6300000">
                <a:off x="1036800" y="5245920"/>
                <a:ext cx="152640" cy="38052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189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4221360" y="765000"/>
            <a:ext cx="1357560" cy="1789920"/>
            <a:chOff x="4221360" y="765000"/>
            <a:chExt cx="1357560" cy="1789920"/>
          </a:xfrm>
        </p:grpSpPr>
        <p:sp>
          <p:nvSpPr>
            <p:cNvPr id="450" name=""/>
            <p:cNvSpPr/>
            <p:nvPr/>
          </p:nvSpPr>
          <p:spPr>
            <a:xfrm rot="1800000">
              <a:off x="4625640" y="180504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36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900000">
              <a:off x="4520880" y="21333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45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5322960" y="1396800"/>
              <a:ext cx="135000" cy="39816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160"/>
                <a:gd name="textAreaBottom" fmla="*/ 34524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81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100000">
              <a:off x="5038920" y="1254600"/>
              <a:ext cx="179640" cy="352440"/>
            </a:xfrm>
            <a:custGeom>
              <a:avLst/>
              <a:gdLst>
                <a:gd name="textAreaLeft" fmla="*/ 23760 w 179640"/>
                <a:gd name="textAreaRight" fmla="*/ 155880 w 17964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9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0440" y="765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208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4500000">
              <a:off x="4363560" y="142524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9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3600000">
              <a:off x="4669200" y="130716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8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4826520" y="1831680"/>
              <a:ext cx="585720" cy="713160"/>
              <a:chOff x="4826520" y="1831680"/>
              <a:chExt cx="585720" cy="713160"/>
            </a:xfrm>
          </p:grpSpPr>
          <p:sp>
            <p:nvSpPr>
              <p:cNvPr id="459" name=""/>
              <p:cNvSpPr/>
              <p:nvPr/>
            </p:nvSpPr>
            <p:spPr>
              <a:xfrm rot="20020800">
                <a:off x="4904280" y="1861200"/>
                <a:ext cx="228240" cy="40428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81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9120800">
                <a:off x="5120280" y="213084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90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8193240" y="3141720"/>
            <a:ext cx="849240" cy="1198080"/>
            <a:chOff x="8193240" y="3141720"/>
            <a:chExt cx="849240" cy="1198080"/>
          </a:xfrm>
        </p:grpSpPr>
        <p:sp>
          <p:nvSpPr>
            <p:cNvPr id="462" name=""/>
            <p:cNvSpPr/>
            <p:nvPr/>
          </p:nvSpPr>
          <p:spPr>
            <a:xfrm flipH="1">
              <a:off x="8226720" y="3141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19324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83426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8425800" y="3862080"/>
              <a:ext cx="616680" cy="447480"/>
              <a:chOff x="8425800" y="3862080"/>
              <a:chExt cx="616680" cy="447480"/>
            </a:xfrm>
          </p:grpSpPr>
          <p:sp>
            <p:nvSpPr>
              <p:cNvPr id="466" name=""/>
              <p:cNvSpPr/>
              <p:nvPr/>
            </p:nvSpPr>
            <p:spPr>
              <a:xfrm flipH="1" rot="13500000">
                <a:off x="853488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8900000">
                <a:off x="87451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efefe"/>
                  </a:gs>
                </a:gsLst>
                <a:lin ang="5400000"/>
              </a:gra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flipH="1" rot="19800000">
              <a:off x="8458560" y="3933720"/>
              <a:ext cx="134640" cy="39888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880"/>
                <a:gd name="textAreaBottom" fmla="*/ 345960 h 39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36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776160" y="549360"/>
            <a:ext cx="762120" cy="1904400"/>
            <a:chOff x="776160" y="549360"/>
            <a:chExt cx="762120" cy="1904400"/>
          </a:xfrm>
        </p:grpSpPr>
        <p:sp>
          <p:nvSpPr>
            <p:cNvPr id="470" name=""/>
            <p:cNvSpPr/>
            <p:nvPr/>
          </p:nvSpPr>
          <p:spPr>
            <a:xfrm>
              <a:off x="928800" y="54936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288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574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6160" y="1006200"/>
              <a:ext cx="152640" cy="6854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600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592520" y="423360"/>
            <a:ext cx="1024920" cy="2030760"/>
            <a:chOff x="4592520" y="423360"/>
            <a:chExt cx="1024920" cy="2030760"/>
          </a:xfrm>
        </p:grpSpPr>
        <p:sp>
          <p:nvSpPr>
            <p:cNvPr id="477" name=""/>
            <p:cNvSpPr/>
            <p:nvPr/>
          </p:nvSpPr>
          <p:spPr>
            <a:xfrm>
              <a:off x="46688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45160" y="549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451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37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2600000">
              <a:off x="530352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92520" y="100620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159960" y="410760"/>
            <a:ext cx="1294200" cy="2043360"/>
            <a:chOff x="6159960" y="410760"/>
            <a:chExt cx="1294200" cy="2043360"/>
          </a:xfrm>
        </p:grpSpPr>
        <p:sp>
          <p:nvSpPr>
            <p:cNvPr id="484" name=""/>
            <p:cNvSpPr/>
            <p:nvPr/>
          </p:nvSpPr>
          <p:spPr>
            <a:xfrm>
              <a:off x="6505560" y="10062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81880" y="549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18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104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2600000">
              <a:off x="714024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000000">
              <a:off x="6321240" y="40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337600" y="549360"/>
            <a:ext cx="762120" cy="1904400"/>
            <a:chOff x="8337600" y="549360"/>
            <a:chExt cx="762120" cy="1904400"/>
          </a:xfrm>
        </p:grpSpPr>
        <p:sp>
          <p:nvSpPr>
            <p:cNvPr id="491" name=""/>
            <p:cNvSpPr/>
            <p:nvPr/>
          </p:nvSpPr>
          <p:spPr>
            <a:xfrm>
              <a:off x="8337600" y="100620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90240" y="54936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1392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90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18840" y="169200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94744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415600" y="423360"/>
            <a:ext cx="1024200" cy="2030760"/>
            <a:chOff x="2415600" y="423360"/>
            <a:chExt cx="1024200" cy="2030760"/>
          </a:xfrm>
        </p:grpSpPr>
        <p:sp>
          <p:nvSpPr>
            <p:cNvPr id="498" name=""/>
            <p:cNvSpPr/>
            <p:nvPr/>
          </p:nvSpPr>
          <p:spPr>
            <a:xfrm flipH="1">
              <a:off x="27536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830320" y="549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0585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8299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rot="9000000">
              <a:off x="2576160" y="4150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287160" y="100620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76160" y="2708280"/>
            <a:ext cx="761760" cy="1752480"/>
            <a:chOff x="776160" y="2708280"/>
            <a:chExt cx="761760" cy="1752480"/>
          </a:xfrm>
        </p:grpSpPr>
        <p:sp>
          <p:nvSpPr>
            <p:cNvPr id="505" name=""/>
            <p:cNvSpPr/>
            <p:nvPr/>
          </p:nvSpPr>
          <p:spPr>
            <a:xfrm>
              <a:off x="776160" y="301284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8440" y="270828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2120" y="301284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8440" y="3698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57040" y="36986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85640" y="301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649600" y="2924280"/>
            <a:ext cx="761760" cy="1523880"/>
            <a:chOff x="2649600" y="2924280"/>
            <a:chExt cx="761760" cy="1523880"/>
          </a:xfrm>
        </p:grpSpPr>
        <p:sp>
          <p:nvSpPr>
            <p:cNvPr id="512" name=""/>
            <p:cNvSpPr/>
            <p:nvPr/>
          </p:nvSpPr>
          <p:spPr>
            <a:xfrm>
              <a:off x="2801880" y="292428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01880" y="36860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30480" y="36860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649600" y="3076560"/>
              <a:ext cx="761760" cy="609480"/>
              <a:chOff x="2649600" y="3076560"/>
              <a:chExt cx="76176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2649600" y="307656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725560" y="307656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59080" y="307656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8337600" y="3141720"/>
            <a:ext cx="762120" cy="1219320"/>
            <a:chOff x="8337600" y="3141720"/>
            <a:chExt cx="762120" cy="1219320"/>
          </a:xfrm>
        </p:grpSpPr>
        <p:sp>
          <p:nvSpPr>
            <p:cNvPr id="520" name=""/>
            <p:cNvSpPr/>
            <p:nvPr/>
          </p:nvSpPr>
          <p:spPr>
            <a:xfrm>
              <a:off x="8490240" y="31417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359892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902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7188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37600" y="3598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947440" y="35989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99840" y="4508640"/>
            <a:ext cx="1028160" cy="1904400"/>
            <a:chOff x="699840" y="4508640"/>
            <a:chExt cx="1028160" cy="1904400"/>
          </a:xfrm>
        </p:grpSpPr>
        <p:sp>
          <p:nvSpPr>
            <p:cNvPr id="527" name=""/>
            <p:cNvSpPr/>
            <p:nvPr/>
          </p:nvSpPr>
          <p:spPr>
            <a:xfrm rot="900000">
              <a:off x="775800" y="496512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79200" y="450864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324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7920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7800" y="5651280"/>
              <a:ext cx="228600" cy="38088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0480 h 380880"/>
                <a:gd name="textAreaBottom" fmla="*/ 320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700000">
              <a:off x="1468440" y="494028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8000000">
              <a:off x="1449000" y="508572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720520" y="4508640"/>
            <a:ext cx="762120" cy="1904400"/>
            <a:chOff x="2720520" y="4508640"/>
            <a:chExt cx="762120" cy="1904400"/>
          </a:xfrm>
        </p:grpSpPr>
        <p:sp>
          <p:nvSpPr>
            <p:cNvPr id="535" name=""/>
            <p:cNvSpPr/>
            <p:nvPr/>
          </p:nvSpPr>
          <p:spPr>
            <a:xfrm flipH="1">
              <a:off x="3330000" y="496548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872800" y="450864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79648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10104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872440" y="565128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720160" y="496548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521240" y="2637000"/>
            <a:ext cx="761760" cy="1752480"/>
            <a:chOff x="4521240" y="2637000"/>
            <a:chExt cx="761760" cy="1752480"/>
          </a:xfrm>
        </p:grpSpPr>
        <p:sp>
          <p:nvSpPr>
            <p:cNvPr id="542" name=""/>
            <p:cNvSpPr/>
            <p:nvPr/>
          </p:nvSpPr>
          <p:spPr>
            <a:xfrm flipH="1">
              <a:off x="5130360" y="2941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673520" y="2637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597200" y="29415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490176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67316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520880" y="2941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392880" y="2865600"/>
            <a:ext cx="761760" cy="1523880"/>
            <a:chOff x="6392880" y="2865600"/>
            <a:chExt cx="761760" cy="1523880"/>
          </a:xfrm>
        </p:grpSpPr>
        <p:sp>
          <p:nvSpPr>
            <p:cNvPr id="549" name=""/>
            <p:cNvSpPr/>
            <p:nvPr/>
          </p:nvSpPr>
          <p:spPr>
            <a:xfrm flipH="1">
              <a:off x="6545160" y="28656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77340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54480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6392880" y="3017880"/>
              <a:ext cx="761760" cy="609480"/>
              <a:chOff x="6392880" y="3017880"/>
              <a:chExt cx="761760" cy="609480"/>
            </a:xfrm>
          </p:grpSpPr>
          <p:sp>
            <p:nvSpPr>
              <p:cNvPr id="553" name=""/>
              <p:cNvSpPr/>
              <p:nvPr/>
            </p:nvSpPr>
            <p:spPr>
              <a:xfrm flipH="1">
                <a:off x="7002000" y="301788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468840" y="301788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6392520" y="301788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4521240" y="4581360"/>
            <a:ext cx="761760" cy="1752840"/>
            <a:chOff x="4521240" y="4581360"/>
            <a:chExt cx="761760" cy="1752840"/>
          </a:xfrm>
        </p:grpSpPr>
        <p:sp>
          <p:nvSpPr>
            <p:cNvPr id="557" name=""/>
            <p:cNvSpPr/>
            <p:nvPr/>
          </p:nvSpPr>
          <p:spPr>
            <a:xfrm>
              <a:off x="4597200" y="4962600"/>
              <a:ext cx="609840" cy="60948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35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021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2124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3072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73520" y="45813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465960" y="4809960"/>
            <a:ext cx="761400" cy="1524240"/>
            <a:chOff x="6465960" y="4809960"/>
            <a:chExt cx="761400" cy="1524240"/>
          </a:xfrm>
        </p:grpSpPr>
        <p:sp>
          <p:nvSpPr>
            <p:cNvPr id="564" name=""/>
            <p:cNvSpPr/>
            <p:nvPr/>
          </p:nvSpPr>
          <p:spPr>
            <a:xfrm>
              <a:off x="6541920" y="5038560"/>
              <a:ext cx="609120" cy="53352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178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464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65960" y="5038560"/>
              <a:ext cx="151920" cy="6098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75080" y="5038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17880" y="4809960"/>
              <a:ext cx="45684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8337600" y="4962600"/>
            <a:ext cx="762120" cy="1371600"/>
            <a:chOff x="8337600" y="4962600"/>
            <a:chExt cx="762120" cy="1371600"/>
          </a:xfrm>
        </p:grpSpPr>
        <p:sp>
          <p:nvSpPr>
            <p:cNvPr id="571" name=""/>
            <p:cNvSpPr/>
            <p:nvPr/>
          </p:nvSpPr>
          <p:spPr>
            <a:xfrm>
              <a:off x="8413920" y="5038560"/>
              <a:ext cx="609480" cy="5335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902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7188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7600" y="5038560"/>
              <a:ext cx="152640" cy="7113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947440" y="5038560"/>
              <a:ext cx="152280" cy="71136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90240" y="49626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76160" y="549360"/>
            <a:ext cx="762120" cy="1904400"/>
            <a:chOff x="776160" y="549360"/>
            <a:chExt cx="762120" cy="1904400"/>
          </a:xfrm>
        </p:grpSpPr>
        <p:sp>
          <p:nvSpPr>
            <p:cNvPr id="578" name=""/>
            <p:cNvSpPr/>
            <p:nvPr/>
          </p:nvSpPr>
          <p:spPr>
            <a:xfrm>
              <a:off x="928800" y="54936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48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88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5740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6160" y="1006200"/>
              <a:ext cx="152640" cy="6854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8600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592520" y="423360"/>
            <a:ext cx="1024920" cy="2030760"/>
            <a:chOff x="4592520" y="423360"/>
            <a:chExt cx="1024920" cy="2030760"/>
          </a:xfrm>
        </p:grpSpPr>
        <p:sp>
          <p:nvSpPr>
            <p:cNvPr id="585" name=""/>
            <p:cNvSpPr/>
            <p:nvPr/>
          </p:nvSpPr>
          <p:spPr>
            <a:xfrm>
              <a:off x="46688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45160" y="549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451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737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2600000">
              <a:off x="530352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92520" y="100620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159960" y="410760"/>
            <a:ext cx="1294200" cy="2043360"/>
            <a:chOff x="6159960" y="410760"/>
            <a:chExt cx="1294200" cy="2043360"/>
          </a:xfrm>
        </p:grpSpPr>
        <p:sp>
          <p:nvSpPr>
            <p:cNvPr id="592" name=""/>
            <p:cNvSpPr/>
            <p:nvPr/>
          </p:nvSpPr>
          <p:spPr>
            <a:xfrm>
              <a:off x="6505560" y="10062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81880" y="549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818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48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2600000">
              <a:off x="7140240" y="4150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9000000">
              <a:off x="6321240" y="40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337600" y="549360"/>
            <a:ext cx="762120" cy="1904400"/>
            <a:chOff x="8337600" y="549360"/>
            <a:chExt cx="762120" cy="1904400"/>
          </a:xfrm>
        </p:grpSpPr>
        <p:sp>
          <p:nvSpPr>
            <p:cNvPr id="599" name=""/>
            <p:cNvSpPr/>
            <p:nvPr/>
          </p:nvSpPr>
          <p:spPr>
            <a:xfrm>
              <a:off x="8337600" y="100620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90240" y="54936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13920" y="100620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90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718840" y="169200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94744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415600" y="423360"/>
            <a:ext cx="1024200" cy="2030760"/>
            <a:chOff x="2415600" y="423360"/>
            <a:chExt cx="1024200" cy="2030760"/>
          </a:xfrm>
        </p:grpSpPr>
        <p:sp>
          <p:nvSpPr>
            <p:cNvPr id="606" name=""/>
            <p:cNvSpPr/>
            <p:nvPr/>
          </p:nvSpPr>
          <p:spPr>
            <a:xfrm flipH="1">
              <a:off x="2753640" y="100620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830320" y="549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0585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829960" y="16920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rot="9000000">
              <a:off x="2576160" y="4150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287160" y="100620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76160" y="2708280"/>
            <a:ext cx="761760" cy="1752480"/>
            <a:chOff x="776160" y="2708280"/>
            <a:chExt cx="761760" cy="1752480"/>
          </a:xfrm>
        </p:grpSpPr>
        <p:sp>
          <p:nvSpPr>
            <p:cNvPr id="613" name=""/>
            <p:cNvSpPr/>
            <p:nvPr/>
          </p:nvSpPr>
          <p:spPr>
            <a:xfrm>
              <a:off x="776160" y="301284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28440" y="270828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2120" y="301284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28440" y="3698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57040" y="36986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85640" y="3012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649600" y="2924280"/>
            <a:ext cx="761760" cy="1523880"/>
            <a:chOff x="2649600" y="2924280"/>
            <a:chExt cx="761760" cy="1523880"/>
          </a:xfrm>
        </p:grpSpPr>
        <p:sp>
          <p:nvSpPr>
            <p:cNvPr id="620" name=""/>
            <p:cNvSpPr/>
            <p:nvPr/>
          </p:nvSpPr>
          <p:spPr>
            <a:xfrm>
              <a:off x="2801880" y="292428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01880" y="36860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30480" y="368604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2649600" y="3076560"/>
              <a:ext cx="761760" cy="609480"/>
              <a:chOff x="2649600" y="3076560"/>
              <a:chExt cx="761760" cy="609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649600" y="307656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25560" y="307656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59080" y="307656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8337600" y="3141720"/>
            <a:ext cx="762120" cy="1219320"/>
            <a:chOff x="8337600" y="3141720"/>
            <a:chExt cx="762120" cy="1219320"/>
          </a:xfrm>
        </p:grpSpPr>
        <p:sp>
          <p:nvSpPr>
            <p:cNvPr id="628" name=""/>
            <p:cNvSpPr/>
            <p:nvPr/>
          </p:nvSpPr>
          <p:spPr>
            <a:xfrm>
              <a:off x="8490240" y="31417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13920" y="359892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902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18840" y="3903840"/>
              <a:ext cx="228600" cy="4572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72720 h 457200"/>
                <a:gd name="textAreaBottom" fmla="*/ 384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37600" y="3598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947440" y="35989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99840" y="4508640"/>
            <a:ext cx="1028160" cy="1904400"/>
            <a:chOff x="699840" y="4508640"/>
            <a:chExt cx="1028160" cy="1904400"/>
          </a:xfrm>
        </p:grpSpPr>
        <p:sp>
          <p:nvSpPr>
            <p:cNvPr id="635" name=""/>
            <p:cNvSpPr/>
            <p:nvPr/>
          </p:nvSpPr>
          <p:spPr>
            <a:xfrm rot="900000">
              <a:off x="775800" y="496512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79200" y="450864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324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7920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07800" y="5651280"/>
              <a:ext cx="228600" cy="38088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0480 h 380880"/>
                <a:gd name="textAreaBottom" fmla="*/ 320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700000">
              <a:off x="1468440" y="494028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8000000">
              <a:off x="1449000" y="508572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720520" y="4508640"/>
            <a:ext cx="762120" cy="1904400"/>
            <a:chOff x="2720520" y="4508640"/>
            <a:chExt cx="762120" cy="1904400"/>
          </a:xfrm>
        </p:grpSpPr>
        <p:sp>
          <p:nvSpPr>
            <p:cNvPr id="643" name=""/>
            <p:cNvSpPr/>
            <p:nvPr/>
          </p:nvSpPr>
          <p:spPr>
            <a:xfrm flipH="1">
              <a:off x="3330000" y="4965480"/>
              <a:ext cx="152640" cy="6091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81000 h 609120"/>
                <a:gd name="textAreaBottom" fmla="*/ 52812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2872800" y="450864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2796480" y="496548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101040" y="565128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872440" y="5651280"/>
              <a:ext cx="228600" cy="609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120"/>
                <a:gd name="textAreaBottom" fmla="*/ 512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720160" y="496548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521240" y="2637000"/>
            <a:ext cx="761760" cy="1752480"/>
            <a:chOff x="4521240" y="2637000"/>
            <a:chExt cx="761760" cy="1752480"/>
          </a:xfrm>
        </p:grpSpPr>
        <p:sp>
          <p:nvSpPr>
            <p:cNvPr id="650" name=""/>
            <p:cNvSpPr/>
            <p:nvPr/>
          </p:nvSpPr>
          <p:spPr>
            <a:xfrm flipH="1">
              <a:off x="5130360" y="2941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673520" y="2637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597200" y="29415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0176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67316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520880" y="2941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6392880" y="2865600"/>
            <a:ext cx="761760" cy="1523880"/>
            <a:chOff x="6392880" y="2865600"/>
            <a:chExt cx="761760" cy="1523880"/>
          </a:xfrm>
        </p:grpSpPr>
        <p:sp>
          <p:nvSpPr>
            <p:cNvPr id="657" name=""/>
            <p:cNvSpPr/>
            <p:nvPr/>
          </p:nvSpPr>
          <p:spPr>
            <a:xfrm flipH="1">
              <a:off x="6545160" y="28656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73400" y="3627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544800" y="3627360"/>
              <a:ext cx="228600" cy="6098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96840 h 609840"/>
                <a:gd name="textAreaBottom" fmla="*/ 513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6392880" y="3017880"/>
              <a:ext cx="761760" cy="609480"/>
              <a:chOff x="6392880" y="3017880"/>
              <a:chExt cx="761760" cy="60948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7002000" y="3017880"/>
                <a:ext cx="152280" cy="5418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72000 h 541800"/>
                  <a:gd name="textAreaBottom" fmla="*/ 469800 h 5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6468840" y="3017880"/>
                <a:ext cx="609840" cy="60948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6392520" y="3017880"/>
                <a:ext cx="152280" cy="6094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81000 h 609480"/>
                  <a:gd name="textAreaBottom" fmla="*/ 528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4521240" y="4581360"/>
            <a:ext cx="761760" cy="1752840"/>
            <a:chOff x="4521240" y="4581360"/>
            <a:chExt cx="761760" cy="1752840"/>
          </a:xfrm>
        </p:grpSpPr>
        <p:sp>
          <p:nvSpPr>
            <p:cNvPr id="665" name=""/>
            <p:cNvSpPr/>
            <p:nvPr/>
          </p:nvSpPr>
          <p:spPr>
            <a:xfrm>
              <a:off x="4597200" y="4962600"/>
              <a:ext cx="609840" cy="60948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735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0212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2124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30720" y="4962600"/>
              <a:ext cx="152280" cy="6094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480"/>
                <a:gd name="textAreaBottom" fmla="*/ 528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73520" y="45813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65960" y="4809960"/>
            <a:ext cx="761400" cy="1524240"/>
            <a:chOff x="6465960" y="4809960"/>
            <a:chExt cx="761400" cy="1524240"/>
          </a:xfrm>
        </p:grpSpPr>
        <p:sp>
          <p:nvSpPr>
            <p:cNvPr id="672" name=""/>
            <p:cNvSpPr/>
            <p:nvPr/>
          </p:nvSpPr>
          <p:spPr>
            <a:xfrm>
              <a:off x="6541920" y="5038560"/>
              <a:ext cx="609120" cy="53352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178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6480" y="55720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65960" y="5038560"/>
              <a:ext cx="151920" cy="6098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75080" y="5038560"/>
              <a:ext cx="152280" cy="6098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81000 h 609840"/>
                <a:gd name="textAreaBottom" fmla="*/ 5288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17880" y="4809960"/>
              <a:ext cx="45684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8337600" y="4962600"/>
            <a:ext cx="762120" cy="1371600"/>
            <a:chOff x="8337600" y="4962600"/>
            <a:chExt cx="762120" cy="1371600"/>
          </a:xfrm>
        </p:grpSpPr>
        <p:sp>
          <p:nvSpPr>
            <p:cNvPr id="679" name=""/>
            <p:cNvSpPr/>
            <p:nvPr/>
          </p:nvSpPr>
          <p:spPr>
            <a:xfrm>
              <a:off x="8413920" y="5038560"/>
              <a:ext cx="609480" cy="5335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70920 h 533520"/>
                <a:gd name="textAreaBottom" fmla="*/ 4626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02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718840" y="557208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7600" y="5038560"/>
              <a:ext cx="152640" cy="7113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947440" y="5038560"/>
              <a:ext cx="152280" cy="71136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4680 h 711360"/>
                <a:gd name="textAreaBottom" fmla="*/ 616680 h 7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90240" y="49626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633240" y="551160"/>
            <a:ext cx="1132560" cy="1979280"/>
            <a:chOff x="633240" y="551160"/>
            <a:chExt cx="1132560" cy="1979280"/>
          </a:xfrm>
        </p:grpSpPr>
        <p:sp>
          <p:nvSpPr>
            <p:cNvPr id="686" name=""/>
            <p:cNvSpPr/>
            <p:nvPr/>
          </p:nvSpPr>
          <p:spPr>
            <a:xfrm>
              <a:off x="892080" y="108252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680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966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00000">
              <a:off x="1501200" y="82224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8100000">
              <a:off x="1393200" y="555120"/>
              <a:ext cx="151920" cy="3812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8100000">
              <a:off x="745200" y="8154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rot="13500000">
              <a:off x="853200" y="5486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68040" y="625320"/>
              <a:ext cx="45684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576520" y="620640"/>
            <a:ext cx="1196640" cy="1904760"/>
            <a:chOff x="2576520" y="620640"/>
            <a:chExt cx="1196640" cy="1904760"/>
          </a:xfrm>
        </p:grpSpPr>
        <p:sp>
          <p:nvSpPr>
            <p:cNvPr id="695" name=""/>
            <p:cNvSpPr/>
            <p:nvPr/>
          </p:nvSpPr>
          <p:spPr>
            <a:xfrm rot="12767400">
              <a:off x="3508920" y="929880"/>
              <a:ext cx="152280" cy="4572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60840 h 457200"/>
                <a:gd name="textAreaBottom" fmla="*/ 3963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8000000">
              <a:off x="3318840" y="105372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28800" y="620640"/>
              <a:ext cx="45684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52480" y="107784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288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574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76520" y="1077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551480" y="2637000"/>
            <a:ext cx="892080" cy="1904400"/>
            <a:chOff x="4551480" y="2637000"/>
            <a:chExt cx="892080" cy="1904400"/>
          </a:xfrm>
        </p:grpSpPr>
        <p:sp>
          <p:nvSpPr>
            <p:cNvPr id="703" name=""/>
            <p:cNvSpPr/>
            <p:nvPr/>
          </p:nvSpPr>
          <p:spPr>
            <a:xfrm>
              <a:off x="4767120" y="263700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9116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671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957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814000">
              <a:off x="4592520" y="3103560"/>
              <a:ext cx="152640" cy="3805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00000">
              <a:off x="4767120" y="323316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rot="786000">
              <a:off x="5249880" y="31035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rot="9000000">
              <a:off x="5103720" y="3192120"/>
              <a:ext cx="152640" cy="3801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160"/>
                <a:gd name="textAreaBottom" fmla="*/ 329760 h 3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8265960" y="549360"/>
            <a:ext cx="975240" cy="1904400"/>
            <a:chOff x="8265960" y="549360"/>
            <a:chExt cx="975240" cy="1904400"/>
          </a:xfrm>
        </p:grpSpPr>
        <p:sp>
          <p:nvSpPr>
            <p:cNvPr id="712" name=""/>
            <p:cNvSpPr/>
            <p:nvPr/>
          </p:nvSpPr>
          <p:spPr>
            <a:xfrm rot="8100000">
              <a:off x="8906760" y="596160"/>
              <a:ext cx="152640" cy="4568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0840 h 456840"/>
                <a:gd name="textAreaBottom" fmla="*/ 3960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5300000">
              <a:off x="8961480" y="85860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18240" y="54936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41920" y="100620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18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6468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6596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286520" y="615600"/>
            <a:ext cx="1294920" cy="2043360"/>
            <a:chOff x="4286520" y="615600"/>
            <a:chExt cx="1294920" cy="2043360"/>
          </a:xfrm>
        </p:grpSpPr>
        <p:sp>
          <p:nvSpPr>
            <p:cNvPr id="720" name=""/>
            <p:cNvSpPr/>
            <p:nvPr/>
          </p:nvSpPr>
          <p:spPr>
            <a:xfrm>
              <a:off x="4632480" y="121104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08440" y="75384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08440" y="18968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9800000">
              <a:off x="5171760" y="1772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2600000">
              <a:off x="5267160" y="619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000000">
              <a:off x="4447800" y="6076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160320" y="628200"/>
            <a:ext cx="1293840" cy="2007720"/>
            <a:chOff x="6160320" y="628200"/>
            <a:chExt cx="1293840" cy="2007720"/>
          </a:xfrm>
        </p:grpSpPr>
        <p:sp>
          <p:nvSpPr>
            <p:cNvPr id="727" name=""/>
            <p:cNvSpPr/>
            <p:nvPr/>
          </p:nvSpPr>
          <p:spPr>
            <a:xfrm>
              <a:off x="6505560" y="122400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1520" y="766800"/>
              <a:ext cx="45684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900000">
              <a:off x="6451560" y="18568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9800000">
              <a:off x="7044840" y="178560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2600000">
              <a:off x="7140600" y="63324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9000000">
              <a:off x="6321600" y="6202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16160" y="2565360"/>
            <a:ext cx="1676520" cy="1905120"/>
            <a:chOff x="2216160" y="2565360"/>
            <a:chExt cx="1676520" cy="1905120"/>
          </a:xfrm>
        </p:grpSpPr>
        <p:sp>
          <p:nvSpPr>
            <p:cNvPr id="734" name=""/>
            <p:cNvSpPr/>
            <p:nvPr/>
          </p:nvSpPr>
          <p:spPr>
            <a:xfrm>
              <a:off x="2368440" y="25653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24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8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970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16160" y="3022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700000">
              <a:off x="2901960" y="29905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82840" y="25653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068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828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11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00000">
              <a:off x="3054240" y="299088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40040" y="30225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633600" y="2568600"/>
            <a:ext cx="1132560" cy="1905120"/>
            <a:chOff x="633600" y="2568600"/>
            <a:chExt cx="1132560" cy="1905120"/>
          </a:xfrm>
        </p:grpSpPr>
        <p:grpSp>
          <p:nvGrpSpPr>
            <p:cNvPr id="747" name=""/>
            <p:cNvGrpSpPr/>
            <p:nvPr/>
          </p:nvGrpSpPr>
          <p:grpSpPr>
            <a:xfrm>
              <a:off x="633600" y="3029760"/>
              <a:ext cx="1132560" cy="649440"/>
              <a:chOff x="633600" y="3029760"/>
              <a:chExt cx="1132560" cy="649440"/>
            </a:xfrm>
          </p:grpSpPr>
          <p:sp>
            <p:nvSpPr>
              <p:cNvPr id="748" name=""/>
              <p:cNvSpPr/>
              <p:nvPr/>
            </p:nvSpPr>
            <p:spPr>
              <a:xfrm rot="2700000">
                <a:off x="745560" y="302760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900000">
                <a:off x="853560" y="32943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8900000">
                <a:off x="1501200" y="303336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rot="2700000">
                <a:off x="1392840" y="330012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92080" y="2568600"/>
              <a:ext cx="609840" cy="1905120"/>
              <a:chOff x="892080" y="2568600"/>
              <a:chExt cx="609840" cy="1905120"/>
            </a:xfrm>
          </p:grpSpPr>
          <p:sp>
            <p:nvSpPr>
              <p:cNvPr id="753" name=""/>
              <p:cNvSpPr/>
              <p:nvPr/>
            </p:nvSpPr>
            <p:spPr>
              <a:xfrm>
                <a:off x="9684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970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68400" y="2568600"/>
                <a:ext cx="457200" cy="457200"/>
              </a:xfrm>
              <a:prstGeom prst="ellipse">
                <a:avLst/>
              </a:pr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92080" y="302580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633960" y="4556160"/>
            <a:ext cx="1132560" cy="1905120"/>
            <a:chOff x="633960" y="4556160"/>
            <a:chExt cx="1132560" cy="1905120"/>
          </a:xfrm>
        </p:grpSpPr>
        <p:sp>
          <p:nvSpPr>
            <p:cNvPr id="758" name=""/>
            <p:cNvSpPr/>
            <p:nvPr/>
          </p:nvSpPr>
          <p:spPr>
            <a:xfrm>
              <a:off x="9684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970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68400" y="45561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700000">
              <a:off x="745920" y="50148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18900000">
              <a:off x="1501200" y="502092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080" y="50133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900000">
              <a:off x="853560" y="528156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rot="2700000">
              <a:off x="1393200" y="528768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720880" y="4584600"/>
            <a:ext cx="1033560" cy="1905120"/>
            <a:chOff x="2720880" y="4584600"/>
            <a:chExt cx="1033560" cy="1905120"/>
          </a:xfrm>
        </p:grpSpPr>
        <p:sp>
          <p:nvSpPr>
            <p:cNvPr id="767" name=""/>
            <p:cNvSpPr/>
            <p:nvPr/>
          </p:nvSpPr>
          <p:spPr>
            <a:xfrm>
              <a:off x="2836800" y="50418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131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417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339000" y="4647600"/>
              <a:ext cx="415440" cy="524520"/>
              <a:chOff x="3339000" y="4647600"/>
              <a:chExt cx="415440" cy="524520"/>
            </a:xfrm>
          </p:grpSpPr>
          <p:sp>
            <p:nvSpPr>
              <p:cNvPr id="771" name=""/>
              <p:cNvSpPr/>
              <p:nvPr/>
            </p:nvSpPr>
            <p:spPr>
              <a:xfrm rot="14264400">
                <a:off x="3464280" y="48153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8619600">
                <a:off x="3504240" y="4655520"/>
                <a:ext cx="151920" cy="38124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2913120" y="45846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20880" y="50403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994360" y="2637000"/>
            <a:ext cx="1597320" cy="1889280"/>
            <a:chOff x="5994360" y="2637000"/>
            <a:chExt cx="1597320" cy="1889280"/>
          </a:xfrm>
        </p:grpSpPr>
        <p:grpSp>
          <p:nvGrpSpPr>
            <p:cNvPr id="776" name=""/>
            <p:cNvGrpSpPr/>
            <p:nvPr/>
          </p:nvGrpSpPr>
          <p:grpSpPr>
            <a:xfrm>
              <a:off x="7010640" y="2966400"/>
              <a:ext cx="581040" cy="480240"/>
              <a:chOff x="7010640" y="2966400"/>
              <a:chExt cx="581040" cy="480240"/>
            </a:xfrm>
          </p:grpSpPr>
          <p:sp>
            <p:nvSpPr>
              <p:cNvPr id="777" name=""/>
              <p:cNvSpPr/>
              <p:nvPr/>
            </p:nvSpPr>
            <p:spPr>
              <a:xfrm rot="12767400">
                <a:off x="7327800" y="2971080"/>
                <a:ext cx="152280" cy="45684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6840"/>
                  <a:gd name="textAreaBottom" fmla="*/ 3960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8000000">
                <a:off x="7137360" y="309492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6546960" y="263700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6371280" y="3731400"/>
              <a:ext cx="837000" cy="794880"/>
              <a:chOff x="6371280" y="3731400"/>
              <a:chExt cx="837000" cy="794880"/>
            </a:xfrm>
          </p:grpSpPr>
          <p:sp>
            <p:nvSpPr>
              <p:cNvPr id="781" name=""/>
              <p:cNvSpPr/>
              <p:nvPr/>
            </p:nvSpPr>
            <p:spPr>
              <a:xfrm rot="900000">
                <a:off x="6465960" y="374796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20700000">
                <a:off x="6885000" y="374760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5994360" y="2964240"/>
              <a:ext cx="581040" cy="480960"/>
              <a:chOff x="5994360" y="2964240"/>
              <a:chExt cx="581040" cy="480960"/>
            </a:xfrm>
          </p:grpSpPr>
          <p:sp>
            <p:nvSpPr>
              <p:cNvPr id="784" name=""/>
              <p:cNvSpPr/>
              <p:nvPr/>
            </p:nvSpPr>
            <p:spPr>
              <a:xfrm flipH="1" rot="8832600">
                <a:off x="6105600" y="2968920"/>
                <a:ext cx="152280" cy="4572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7200"/>
                  <a:gd name="textAreaBottom" fmla="*/ 3963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rot="3600000">
                <a:off x="6296040" y="309348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648504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8025480" y="2661840"/>
            <a:ext cx="1481400" cy="1791720"/>
            <a:chOff x="8025480" y="2661840"/>
            <a:chExt cx="1481400" cy="1791720"/>
          </a:xfrm>
        </p:grpSpPr>
        <p:grpSp>
          <p:nvGrpSpPr>
            <p:cNvPr id="788" name=""/>
            <p:cNvGrpSpPr/>
            <p:nvPr/>
          </p:nvGrpSpPr>
          <p:grpSpPr>
            <a:xfrm>
              <a:off x="8025480" y="3658680"/>
              <a:ext cx="837000" cy="794880"/>
              <a:chOff x="8025480" y="3658680"/>
              <a:chExt cx="837000" cy="794880"/>
            </a:xfrm>
          </p:grpSpPr>
          <p:sp>
            <p:nvSpPr>
              <p:cNvPr id="789" name=""/>
              <p:cNvSpPr/>
              <p:nvPr/>
            </p:nvSpPr>
            <p:spPr>
              <a:xfrm rot="900000">
                <a:off x="8120160" y="367524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700000">
                <a:off x="8539200" y="367488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8124840" y="2661840"/>
              <a:ext cx="1382040" cy="1263960"/>
              <a:chOff x="8124840" y="2661840"/>
              <a:chExt cx="1382040" cy="12639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8900280" y="3354480"/>
                <a:ext cx="606600" cy="405720"/>
                <a:chOff x="8900280" y="3354480"/>
                <a:chExt cx="606600" cy="405720"/>
              </a:xfrm>
            </p:grpSpPr>
            <p:sp>
              <p:nvSpPr>
                <p:cNvPr id="793" name=""/>
                <p:cNvSpPr/>
                <p:nvPr/>
              </p:nvSpPr>
              <p:spPr>
                <a:xfrm rot="14567400">
                  <a:off x="9192600" y="3349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9800000">
                  <a:off x="8985240" y="336672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rot="1800000">
                <a:off x="8663400" y="2745360"/>
                <a:ext cx="457200" cy="457200"/>
              </a:xfrm>
              <a:prstGeom prst="ellipse">
                <a:avLst/>
              </a:pr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8124840" y="2734200"/>
                <a:ext cx="398880" cy="477360"/>
                <a:chOff x="8124840" y="2734200"/>
                <a:chExt cx="398880" cy="477360"/>
              </a:xfrm>
            </p:grpSpPr>
            <p:sp>
              <p:nvSpPr>
                <p:cNvPr id="797" name=""/>
                <p:cNvSpPr/>
                <p:nvPr/>
              </p:nvSpPr>
              <p:spPr>
                <a:xfrm flipH="1" rot="10632600">
                  <a:off x="8135640" y="2737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5400000">
                  <a:off x="8256960" y="294480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 rot="1800000">
                <a:off x="8313840" y="313308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4557960" y="4687920"/>
            <a:ext cx="812520" cy="1663560"/>
            <a:chOff x="4557960" y="4687920"/>
            <a:chExt cx="812520" cy="1663560"/>
          </a:xfrm>
        </p:grpSpPr>
        <p:sp>
          <p:nvSpPr>
            <p:cNvPr id="801" name=""/>
            <p:cNvSpPr/>
            <p:nvPr/>
          </p:nvSpPr>
          <p:spPr>
            <a:xfrm>
              <a:off x="47242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528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48320" y="5048280"/>
              <a:ext cx="609480" cy="6127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81360 h 612720"/>
                <a:gd name="textAreaBottom" fmla="*/ 5313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4970880" y="5017320"/>
              <a:ext cx="399600" cy="639720"/>
              <a:chOff x="4970880" y="5017320"/>
              <a:chExt cx="399600" cy="639720"/>
            </a:xfrm>
          </p:grpSpPr>
          <p:sp>
            <p:nvSpPr>
              <p:cNvPr id="805" name=""/>
              <p:cNvSpPr/>
              <p:nvPr/>
            </p:nvSpPr>
            <p:spPr>
              <a:xfrm flipH="1" rot="20700000">
                <a:off x="5171040" y="50302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rot="2700000">
                <a:off x="508284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557960" y="5017320"/>
              <a:ext cx="399240" cy="639720"/>
              <a:chOff x="4557960" y="5017320"/>
              <a:chExt cx="399240" cy="639720"/>
            </a:xfrm>
          </p:grpSpPr>
          <p:sp>
            <p:nvSpPr>
              <p:cNvPr id="808" name=""/>
              <p:cNvSpPr/>
              <p:nvPr/>
            </p:nvSpPr>
            <p:spPr>
              <a:xfrm rot="900000">
                <a:off x="4604040" y="503028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8900000">
                <a:off x="469260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4724280" y="46879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429240" y="4941720"/>
            <a:ext cx="812880" cy="1409760"/>
            <a:chOff x="6429240" y="4941720"/>
            <a:chExt cx="812880" cy="1409760"/>
          </a:xfrm>
        </p:grpSpPr>
        <p:sp>
          <p:nvSpPr>
            <p:cNvPr id="812" name=""/>
            <p:cNvSpPr/>
            <p:nvPr/>
          </p:nvSpPr>
          <p:spPr>
            <a:xfrm>
              <a:off x="65959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245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19960" y="5157720"/>
              <a:ext cx="609480" cy="50328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66960 h 503280"/>
                <a:gd name="textAreaBottom" fmla="*/ 436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842880" y="5177520"/>
              <a:ext cx="399240" cy="639720"/>
              <a:chOff x="6842880" y="5177520"/>
              <a:chExt cx="399240" cy="639720"/>
            </a:xfrm>
          </p:grpSpPr>
          <p:sp>
            <p:nvSpPr>
              <p:cNvPr id="816" name=""/>
              <p:cNvSpPr/>
              <p:nvPr/>
            </p:nvSpPr>
            <p:spPr>
              <a:xfrm flipH="1" rot="20700000">
                <a:off x="704304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2700000">
                <a:off x="695484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429240" y="5177520"/>
              <a:ext cx="399600" cy="639360"/>
              <a:chOff x="6429240" y="5177520"/>
              <a:chExt cx="399600" cy="639360"/>
            </a:xfrm>
          </p:grpSpPr>
          <p:sp>
            <p:nvSpPr>
              <p:cNvPr id="819" name=""/>
              <p:cNvSpPr/>
              <p:nvPr/>
            </p:nvSpPr>
            <p:spPr>
              <a:xfrm rot="900000">
                <a:off x="647568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8900000">
                <a:off x="656388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6595920" y="49417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315640" y="5157720"/>
            <a:ext cx="812520" cy="1193760"/>
            <a:chOff x="8315640" y="5157720"/>
            <a:chExt cx="812520" cy="1193760"/>
          </a:xfrm>
        </p:grpSpPr>
        <p:sp>
          <p:nvSpPr>
            <p:cNvPr id="823" name=""/>
            <p:cNvSpPr/>
            <p:nvPr/>
          </p:nvSpPr>
          <p:spPr>
            <a:xfrm>
              <a:off x="84819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7105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405640" y="5300640"/>
              <a:ext cx="609840" cy="433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57600 h 433440"/>
                <a:gd name="textAreaBottom" fmla="*/ 3758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8728560" y="5271480"/>
              <a:ext cx="399600" cy="639720"/>
              <a:chOff x="8728560" y="5271480"/>
              <a:chExt cx="399600" cy="639720"/>
            </a:xfrm>
          </p:grpSpPr>
          <p:sp>
            <p:nvSpPr>
              <p:cNvPr id="827" name=""/>
              <p:cNvSpPr/>
              <p:nvPr/>
            </p:nvSpPr>
            <p:spPr>
              <a:xfrm flipH="1" rot="20700000">
                <a:off x="8928720" y="528444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2700000">
                <a:off x="884052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8315640" y="5271480"/>
              <a:ext cx="399240" cy="639720"/>
              <a:chOff x="8315640" y="5271480"/>
              <a:chExt cx="399240" cy="639720"/>
            </a:xfrm>
          </p:grpSpPr>
          <p:sp>
            <p:nvSpPr>
              <p:cNvPr id="830" name=""/>
              <p:cNvSpPr/>
              <p:nvPr/>
            </p:nvSpPr>
            <p:spPr>
              <a:xfrm rot="900000">
                <a:off x="8361720" y="528444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8900000">
                <a:off x="845028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8481960" y="51577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33240" y="551160"/>
            <a:ext cx="1132560" cy="1979280"/>
            <a:chOff x="633240" y="551160"/>
            <a:chExt cx="1132560" cy="1979280"/>
          </a:xfrm>
        </p:grpSpPr>
        <p:sp>
          <p:nvSpPr>
            <p:cNvPr id="834" name=""/>
            <p:cNvSpPr/>
            <p:nvPr/>
          </p:nvSpPr>
          <p:spPr>
            <a:xfrm>
              <a:off x="892080" y="108252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680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96640" y="176832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3500000">
              <a:off x="1501200" y="82224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8100000">
              <a:off x="1393200" y="555120"/>
              <a:ext cx="151920" cy="38124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rot="8100000">
              <a:off x="745200" y="8154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rot="13500000">
              <a:off x="853200" y="5486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68040" y="625320"/>
              <a:ext cx="45684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76520" y="620640"/>
            <a:ext cx="1196640" cy="1904760"/>
            <a:chOff x="2576520" y="620640"/>
            <a:chExt cx="1196640" cy="1904760"/>
          </a:xfrm>
        </p:grpSpPr>
        <p:sp>
          <p:nvSpPr>
            <p:cNvPr id="843" name=""/>
            <p:cNvSpPr/>
            <p:nvPr/>
          </p:nvSpPr>
          <p:spPr>
            <a:xfrm rot="12767400">
              <a:off x="3508920" y="929880"/>
              <a:ext cx="152280" cy="4572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60840 h 457200"/>
                <a:gd name="textAreaBottom" fmla="*/ 3963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8000000">
              <a:off x="3318840" y="105372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28800" y="620640"/>
              <a:ext cx="45684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52480" y="107784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288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57400" y="1763640"/>
              <a:ext cx="228240" cy="76176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76520" y="107784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51480" y="2637000"/>
            <a:ext cx="892080" cy="1904400"/>
            <a:chOff x="4551480" y="2637000"/>
            <a:chExt cx="892080" cy="1904400"/>
          </a:xfrm>
        </p:grpSpPr>
        <p:sp>
          <p:nvSpPr>
            <p:cNvPr id="851" name=""/>
            <p:cNvSpPr/>
            <p:nvPr/>
          </p:nvSpPr>
          <p:spPr>
            <a:xfrm>
              <a:off x="4767120" y="263700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9116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7671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95720" y="377964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814000">
              <a:off x="4592520" y="3103560"/>
              <a:ext cx="152640" cy="38052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3500000">
              <a:off x="4767120" y="323316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rot="786000">
              <a:off x="5249880" y="31035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rot="9000000">
              <a:off x="5103720" y="3192120"/>
              <a:ext cx="152640" cy="38016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160"/>
                <a:gd name="textAreaBottom" fmla="*/ 329760 h 3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8265960" y="549360"/>
            <a:ext cx="975240" cy="1904400"/>
            <a:chOff x="8265960" y="549360"/>
            <a:chExt cx="975240" cy="1904400"/>
          </a:xfrm>
        </p:grpSpPr>
        <p:sp>
          <p:nvSpPr>
            <p:cNvPr id="860" name=""/>
            <p:cNvSpPr/>
            <p:nvPr/>
          </p:nvSpPr>
          <p:spPr>
            <a:xfrm rot="8100000">
              <a:off x="8906760" y="596160"/>
              <a:ext cx="152640" cy="4568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60840 h 456840"/>
                <a:gd name="textAreaBottom" fmla="*/ 3960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5300000">
              <a:off x="8961480" y="858600"/>
              <a:ext cx="151920" cy="38088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18240" y="54936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41920" y="100620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4182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646840" y="169200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65960" y="1006200"/>
              <a:ext cx="152280" cy="68544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4286520" y="615600"/>
            <a:ext cx="1294920" cy="2043360"/>
            <a:chOff x="4286520" y="615600"/>
            <a:chExt cx="1294920" cy="2043360"/>
          </a:xfrm>
        </p:grpSpPr>
        <p:sp>
          <p:nvSpPr>
            <p:cNvPr id="868" name=""/>
            <p:cNvSpPr/>
            <p:nvPr/>
          </p:nvSpPr>
          <p:spPr>
            <a:xfrm>
              <a:off x="4632480" y="121104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08440" y="75384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08440" y="18968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9800000">
              <a:off x="5171760" y="177264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2600000">
              <a:off x="5267160" y="61992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9000000">
              <a:off x="4447800" y="60768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160320" y="628200"/>
            <a:ext cx="1293840" cy="2007720"/>
            <a:chOff x="6160320" y="628200"/>
            <a:chExt cx="1293840" cy="2007720"/>
          </a:xfrm>
        </p:grpSpPr>
        <p:sp>
          <p:nvSpPr>
            <p:cNvPr id="875" name=""/>
            <p:cNvSpPr/>
            <p:nvPr/>
          </p:nvSpPr>
          <p:spPr>
            <a:xfrm>
              <a:off x="6505560" y="1224000"/>
              <a:ext cx="609120" cy="685800"/>
            </a:xfrm>
            <a:custGeom>
              <a:avLst/>
              <a:gdLst>
                <a:gd name="textAreaLeft" fmla="*/ 81000 w 609120"/>
                <a:gd name="textAreaRight" fmla="*/ 528120 w 6091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81520" y="766800"/>
              <a:ext cx="45684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900000">
              <a:off x="6451560" y="185688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9800000">
              <a:off x="7044840" y="1785600"/>
              <a:ext cx="228240" cy="762120"/>
            </a:xfrm>
            <a:custGeom>
              <a:avLst/>
              <a:gdLst>
                <a:gd name="textAreaLeft" fmla="*/ 36360 w 228240"/>
                <a:gd name="textAreaRight" fmla="*/ 191880 w 22824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2600000">
              <a:off x="7140600" y="63324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9000000">
              <a:off x="6321600" y="620280"/>
              <a:ext cx="151920" cy="685800"/>
            </a:xfrm>
            <a:custGeom>
              <a:avLst/>
              <a:gdLst>
                <a:gd name="textAreaLeft" fmla="*/ 20160 w 151920"/>
                <a:gd name="textAreaRight" fmla="*/ 131760 w 15192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216160" y="2565360"/>
            <a:ext cx="1676520" cy="1905120"/>
            <a:chOff x="2216160" y="2565360"/>
            <a:chExt cx="1676520" cy="1905120"/>
          </a:xfrm>
        </p:grpSpPr>
        <p:sp>
          <p:nvSpPr>
            <p:cNvPr id="882" name=""/>
            <p:cNvSpPr/>
            <p:nvPr/>
          </p:nvSpPr>
          <p:spPr>
            <a:xfrm>
              <a:off x="2368440" y="25653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924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8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970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16160" y="302256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700000">
              <a:off x="2901960" y="29905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82840" y="25653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6880" y="302256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28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11440" y="37083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900000">
              <a:off x="3054240" y="299088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40040" y="30225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33600" y="2568600"/>
            <a:ext cx="1132560" cy="1905120"/>
            <a:chOff x="633600" y="2568600"/>
            <a:chExt cx="1132560" cy="1905120"/>
          </a:xfrm>
        </p:grpSpPr>
        <p:grpSp>
          <p:nvGrpSpPr>
            <p:cNvPr id="895" name=""/>
            <p:cNvGrpSpPr/>
            <p:nvPr/>
          </p:nvGrpSpPr>
          <p:grpSpPr>
            <a:xfrm>
              <a:off x="633600" y="3029760"/>
              <a:ext cx="1132560" cy="649440"/>
              <a:chOff x="633600" y="3029760"/>
              <a:chExt cx="1132560" cy="649440"/>
            </a:xfrm>
          </p:grpSpPr>
          <p:sp>
            <p:nvSpPr>
              <p:cNvPr id="896" name=""/>
              <p:cNvSpPr/>
              <p:nvPr/>
            </p:nvSpPr>
            <p:spPr>
              <a:xfrm rot="2700000">
                <a:off x="745560" y="302760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8900000">
                <a:off x="853560" y="32943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18900000">
                <a:off x="1501200" y="303336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700000">
                <a:off x="1392840" y="330012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892080" y="2568600"/>
              <a:ext cx="609840" cy="1905120"/>
              <a:chOff x="892080" y="2568600"/>
              <a:chExt cx="609840" cy="1905120"/>
            </a:xfrm>
          </p:grpSpPr>
          <p:sp>
            <p:nvSpPr>
              <p:cNvPr id="901" name=""/>
              <p:cNvSpPr/>
              <p:nvPr/>
            </p:nvSpPr>
            <p:spPr>
              <a:xfrm>
                <a:off x="9684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197000" y="3711600"/>
                <a:ext cx="228600" cy="76212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1320 h 762120"/>
                  <a:gd name="textAreaBottom" fmla="*/ 6408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968400" y="2568600"/>
                <a:ext cx="457200" cy="457200"/>
              </a:xfrm>
              <a:prstGeom prst="ellipse">
                <a:avLst/>
              </a:pr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92080" y="302580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633960" y="4556160"/>
            <a:ext cx="1132560" cy="1905120"/>
            <a:chOff x="633960" y="4556160"/>
            <a:chExt cx="1132560" cy="1905120"/>
          </a:xfrm>
        </p:grpSpPr>
        <p:sp>
          <p:nvSpPr>
            <p:cNvPr id="906" name=""/>
            <p:cNvSpPr/>
            <p:nvPr/>
          </p:nvSpPr>
          <p:spPr>
            <a:xfrm>
              <a:off x="9684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97000" y="569916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8400" y="45561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2700000">
              <a:off x="745920" y="501480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18900000">
              <a:off x="1501200" y="502092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92080" y="501336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8900000">
              <a:off x="853560" y="528156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2700000">
              <a:off x="1393200" y="528768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720880" y="4584600"/>
            <a:ext cx="1033560" cy="1905120"/>
            <a:chOff x="2720880" y="4584600"/>
            <a:chExt cx="1033560" cy="1905120"/>
          </a:xfrm>
        </p:grpSpPr>
        <p:sp>
          <p:nvSpPr>
            <p:cNvPr id="915" name=""/>
            <p:cNvSpPr/>
            <p:nvPr/>
          </p:nvSpPr>
          <p:spPr>
            <a:xfrm>
              <a:off x="2836800" y="504180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131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41720" y="5727600"/>
              <a:ext cx="228600" cy="76212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1320 h 762120"/>
                <a:gd name="textAreaBottom" fmla="*/ 6408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3339000" y="4647600"/>
              <a:ext cx="415440" cy="524520"/>
              <a:chOff x="3339000" y="4647600"/>
              <a:chExt cx="415440" cy="524520"/>
            </a:xfrm>
          </p:grpSpPr>
          <p:sp>
            <p:nvSpPr>
              <p:cNvPr id="919" name=""/>
              <p:cNvSpPr/>
              <p:nvPr/>
            </p:nvSpPr>
            <p:spPr>
              <a:xfrm rot="14264400">
                <a:off x="3464280" y="48153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8619600">
                <a:off x="3504240" y="4655520"/>
                <a:ext cx="151920" cy="38124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913120" y="45846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20880" y="504036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994360" y="2637000"/>
            <a:ext cx="1597320" cy="1889280"/>
            <a:chOff x="5994360" y="2637000"/>
            <a:chExt cx="1597320" cy="1889280"/>
          </a:xfrm>
        </p:grpSpPr>
        <p:grpSp>
          <p:nvGrpSpPr>
            <p:cNvPr id="924" name=""/>
            <p:cNvGrpSpPr/>
            <p:nvPr/>
          </p:nvGrpSpPr>
          <p:grpSpPr>
            <a:xfrm>
              <a:off x="7010640" y="2966400"/>
              <a:ext cx="581040" cy="480240"/>
              <a:chOff x="7010640" y="2966400"/>
              <a:chExt cx="581040" cy="480240"/>
            </a:xfrm>
          </p:grpSpPr>
          <p:sp>
            <p:nvSpPr>
              <p:cNvPr id="925" name=""/>
              <p:cNvSpPr/>
              <p:nvPr/>
            </p:nvSpPr>
            <p:spPr>
              <a:xfrm rot="12767400">
                <a:off x="7327800" y="2971080"/>
                <a:ext cx="152280" cy="45684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6840"/>
                  <a:gd name="textAreaBottom" fmla="*/ 3960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8000000">
                <a:off x="7137360" y="309492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6546960" y="263700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6371280" y="3731400"/>
              <a:ext cx="837000" cy="794880"/>
              <a:chOff x="6371280" y="3731400"/>
              <a:chExt cx="837000" cy="794880"/>
            </a:xfrm>
          </p:grpSpPr>
          <p:sp>
            <p:nvSpPr>
              <p:cNvPr id="929" name=""/>
              <p:cNvSpPr/>
              <p:nvPr/>
            </p:nvSpPr>
            <p:spPr>
              <a:xfrm rot="900000">
                <a:off x="6465960" y="374796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700000">
                <a:off x="6885000" y="374760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994360" y="2964240"/>
              <a:ext cx="581040" cy="480960"/>
              <a:chOff x="5994360" y="2964240"/>
              <a:chExt cx="581040" cy="480960"/>
            </a:xfrm>
          </p:grpSpPr>
          <p:sp>
            <p:nvSpPr>
              <p:cNvPr id="932" name=""/>
              <p:cNvSpPr/>
              <p:nvPr/>
            </p:nvSpPr>
            <p:spPr>
              <a:xfrm flipH="1" rot="8832600">
                <a:off x="6105600" y="2968920"/>
                <a:ext cx="152280" cy="45720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60840 h 457200"/>
                  <a:gd name="textAreaBottom" fmla="*/ 3963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rot="3600000">
                <a:off x="6296040" y="3093480"/>
                <a:ext cx="151920" cy="380880"/>
              </a:xfrm>
              <a:custGeom>
                <a:avLst/>
                <a:gdLst>
                  <a:gd name="textAreaLeft" fmla="*/ 20160 w 151920"/>
                  <a:gd name="textAreaRight" fmla="*/ 131760 w 15192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6485040" y="3093840"/>
              <a:ext cx="609480" cy="68544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8025480" y="2661840"/>
            <a:ext cx="1481400" cy="1791720"/>
            <a:chOff x="8025480" y="2661840"/>
            <a:chExt cx="1481400" cy="1791720"/>
          </a:xfrm>
        </p:grpSpPr>
        <p:grpSp>
          <p:nvGrpSpPr>
            <p:cNvPr id="936" name=""/>
            <p:cNvGrpSpPr/>
            <p:nvPr/>
          </p:nvGrpSpPr>
          <p:grpSpPr>
            <a:xfrm>
              <a:off x="8025480" y="3658680"/>
              <a:ext cx="837000" cy="794880"/>
              <a:chOff x="8025480" y="3658680"/>
              <a:chExt cx="837000" cy="794880"/>
            </a:xfrm>
          </p:grpSpPr>
          <p:sp>
            <p:nvSpPr>
              <p:cNvPr id="937" name=""/>
              <p:cNvSpPr/>
              <p:nvPr/>
            </p:nvSpPr>
            <p:spPr>
              <a:xfrm rot="900000">
                <a:off x="8120160" y="367524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0700000">
                <a:off x="8539200" y="3674880"/>
                <a:ext cx="228600" cy="76176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120960 h 761760"/>
                  <a:gd name="textAreaBottom" fmla="*/ 64080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8124840" y="2661840"/>
              <a:ext cx="1382040" cy="1263960"/>
              <a:chOff x="8124840" y="2661840"/>
              <a:chExt cx="1382040" cy="12639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8900280" y="3354480"/>
                <a:ext cx="606600" cy="405720"/>
                <a:chOff x="8900280" y="3354480"/>
                <a:chExt cx="606600" cy="405720"/>
              </a:xfrm>
            </p:grpSpPr>
            <p:sp>
              <p:nvSpPr>
                <p:cNvPr id="941" name=""/>
                <p:cNvSpPr/>
                <p:nvPr/>
              </p:nvSpPr>
              <p:spPr>
                <a:xfrm rot="14567400">
                  <a:off x="9192600" y="3349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19800000">
                  <a:off x="8985240" y="336672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 rot="1800000">
                <a:off x="8663400" y="2745360"/>
                <a:ext cx="457200" cy="457200"/>
              </a:xfrm>
              <a:prstGeom prst="ellipse">
                <a:avLst/>
              </a:pr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8124840" y="2734200"/>
                <a:ext cx="398880" cy="477360"/>
                <a:chOff x="8124840" y="2734200"/>
                <a:chExt cx="398880" cy="477360"/>
              </a:xfrm>
            </p:grpSpPr>
            <p:sp>
              <p:nvSpPr>
                <p:cNvPr id="945" name=""/>
                <p:cNvSpPr/>
                <p:nvPr/>
              </p:nvSpPr>
              <p:spPr>
                <a:xfrm flipH="1" rot="10632600">
                  <a:off x="8135640" y="2737440"/>
                  <a:ext cx="152280" cy="45720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60840 h 457200"/>
                    <a:gd name="textAreaBottom" fmla="*/ 3963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5400000">
                  <a:off x="8256960" y="2944800"/>
                  <a:ext cx="152280" cy="380880"/>
                </a:xfrm>
                <a:custGeom>
                  <a:avLst/>
                  <a:gdLst>
                    <a:gd name="textAreaLeft" fmla="*/ 20160 w 152280"/>
                    <a:gd name="textAreaRight" fmla="*/ 132120 w 152280"/>
                    <a:gd name="textAreaTop" fmla="*/ 50400 h 380880"/>
                    <a:gd name="textAreaBottom" fmla="*/ 33048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575" y="21600"/>
                      </a:lnTo>
                      <a:lnTo>
                        <a:pt x="2025" y="216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26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7" name=""/>
              <p:cNvSpPr/>
              <p:nvPr/>
            </p:nvSpPr>
            <p:spPr>
              <a:xfrm rot="1800000">
                <a:off x="8313840" y="3133080"/>
                <a:ext cx="609840" cy="685800"/>
              </a:xfrm>
              <a:custGeom>
                <a:avLst/>
                <a:gdLst>
                  <a:gd name="textAreaLeft" fmla="*/ 81000 w 609840"/>
                  <a:gd name="textAreaRight" fmla="*/ 528840 w 609840"/>
                  <a:gd name="textAreaTop" fmla="*/ 91080 h 685800"/>
                  <a:gd name="textAreaBottom" fmla="*/ 59472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"/>
          <p:cNvGrpSpPr/>
          <p:nvPr/>
        </p:nvGrpSpPr>
        <p:grpSpPr>
          <a:xfrm>
            <a:off x="4557960" y="4687920"/>
            <a:ext cx="812520" cy="1663560"/>
            <a:chOff x="4557960" y="4687920"/>
            <a:chExt cx="812520" cy="1663560"/>
          </a:xfrm>
        </p:grpSpPr>
        <p:sp>
          <p:nvSpPr>
            <p:cNvPr id="949" name=""/>
            <p:cNvSpPr/>
            <p:nvPr/>
          </p:nvSpPr>
          <p:spPr>
            <a:xfrm>
              <a:off x="47242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5288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48320" y="5048280"/>
              <a:ext cx="609480" cy="61272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81360 h 612720"/>
                <a:gd name="textAreaBottom" fmla="*/ 5313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4970880" y="5017320"/>
              <a:ext cx="399600" cy="639720"/>
              <a:chOff x="4970880" y="5017320"/>
              <a:chExt cx="399600" cy="639720"/>
            </a:xfrm>
          </p:grpSpPr>
          <p:sp>
            <p:nvSpPr>
              <p:cNvPr id="953" name=""/>
              <p:cNvSpPr/>
              <p:nvPr/>
            </p:nvSpPr>
            <p:spPr>
              <a:xfrm flipH="1" rot="20700000">
                <a:off x="5171040" y="50302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rot="2700000">
                <a:off x="508284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557960" y="5017320"/>
              <a:ext cx="399240" cy="639720"/>
              <a:chOff x="4557960" y="5017320"/>
              <a:chExt cx="399240" cy="639720"/>
            </a:xfrm>
          </p:grpSpPr>
          <p:sp>
            <p:nvSpPr>
              <p:cNvPr id="956" name=""/>
              <p:cNvSpPr/>
              <p:nvPr/>
            </p:nvSpPr>
            <p:spPr>
              <a:xfrm rot="900000">
                <a:off x="4604040" y="503028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8900000">
                <a:off x="4692600" y="5277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4724280" y="46879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429240" y="4941720"/>
            <a:ext cx="812880" cy="1409760"/>
            <a:chOff x="6429240" y="4941720"/>
            <a:chExt cx="812880" cy="1409760"/>
          </a:xfrm>
        </p:grpSpPr>
        <p:sp>
          <p:nvSpPr>
            <p:cNvPr id="960" name=""/>
            <p:cNvSpPr/>
            <p:nvPr/>
          </p:nvSpPr>
          <p:spPr>
            <a:xfrm>
              <a:off x="65959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2452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19960" y="5157720"/>
              <a:ext cx="609480" cy="50328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66960 h 503280"/>
                <a:gd name="textAreaBottom" fmla="*/ 436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842880" y="5177520"/>
              <a:ext cx="399240" cy="639720"/>
              <a:chOff x="6842880" y="5177520"/>
              <a:chExt cx="399240" cy="639720"/>
            </a:xfrm>
          </p:grpSpPr>
          <p:sp>
            <p:nvSpPr>
              <p:cNvPr id="964" name=""/>
              <p:cNvSpPr/>
              <p:nvPr/>
            </p:nvSpPr>
            <p:spPr>
              <a:xfrm flipH="1" rot="20700000">
                <a:off x="704304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rot="2700000">
                <a:off x="695484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6429240" y="5177520"/>
              <a:ext cx="399600" cy="639360"/>
              <a:chOff x="6429240" y="5177520"/>
              <a:chExt cx="399600" cy="639360"/>
            </a:xfrm>
          </p:grpSpPr>
          <p:sp>
            <p:nvSpPr>
              <p:cNvPr id="967" name=""/>
              <p:cNvSpPr/>
              <p:nvPr/>
            </p:nvSpPr>
            <p:spPr>
              <a:xfrm rot="900000">
                <a:off x="6475680" y="519048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8900000">
                <a:off x="6563880" y="543816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6595920" y="49417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8315640" y="5157720"/>
            <a:ext cx="812520" cy="1193760"/>
            <a:chOff x="8315640" y="5157720"/>
            <a:chExt cx="812520" cy="1193760"/>
          </a:xfrm>
        </p:grpSpPr>
        <p:sp>
          <p:nvSpPr>
            <p:cNvPr id="971" name=""/>
            <p:cNvSpPr/>
            <p:nvPr/>
          </p:nvSpPr>
          <p:spPr>
            <a:xfrm>
              <a:off x="84819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710560" y="55897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05640" y="5300640"/>
              <a:ext cx="609840" cy="433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57600 h 433440"/>
                <a:gd name="textAreaBottom" fmla="*/ 3758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8728560" y="5271480"/>
              <a:ext cx="399600" cy="639720"/>
              <a:chOff x="8728560" y="5271480"/>
              <a:chExt cx="399600" cy="639720"/>
            </a:xfrm>
          </p:grpSpPr>
          <p:sp>
            <p:nvSpPr>
              <p:cNvPr id="975" name=""/>
              <p:cNvSpPr/>
              <p:nvPr/>
            </p:nvSpPr>
            <p:spPr>
              <a:xfrm flipH="1" rot="20700000">
                <a:off x="8928720" y="528444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rot="2700000">
                <a:off x="884052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8315640" y="5271480"/>
              <a:ext cx="399240" cy="639720"/>
              <a:chOff x="8315640" y="5271480"/>
              <a:chExt cx="399240" cy="639720"/>
            </a:xfrm>
          </p:grpSpPr>
          <p:sp>
            <p:nvSpPr>
              <p:cNvPr id="978" name=""/>
              <p:cNvSpPr/>
              <p:nvPr/>
            </p:nvSpPr>
            <p:spPr>
              <a:xfrm rot="900000">
                <a:off x="8361720" y="528444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900000">
                <a:off x="8450280" y="55321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8481960" y="51577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6198480" y="765000"/>
            <a:ext cx="1253880" cy="1731240"/>
            <a:chOff x="6198480" y="765000"/>
            <a:chExt cx="1253880" cy="1731240"/>
          </a:xfrm>
        </p:grpSpPr>
        <p:grpSp>
          <p:nvGrpSpPr>
            <p:cNvPr id="982" name=""/>
            <p:cNvGrpSpPr/>
            <p:nvPr/>
          </p:nvGrpSpPr>
          <p:grpSpPr>
            <a:xfrm>
              <a:off x="6411600" y="1776600"/>
              <a:ext cx="400320" cy="719640"/>
              <a:chOff x="6411600" y="1776600"/>
              <a:chExt cx="400320" cy="719640"/>
            </a:xfrm>
          </p:grpSpPr>
          <p:sp>
            <p:nvSpPr>
              <p:cNvPr id="983" name=""/>
              <p:cNvSpPr/>
              <p:nvPr/>
            </p:nvSpPr>
            <p:spPr>
              <a:xfrm rot="1800000">
                <a:off x="6497280" y="18064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9800000">
                <a:off x="6529320" y="207288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6792480" y="1137960"/>
              <a:ext cx="630000" cy="469080"/>
              <a:chOff x="6792480" y="1137960"/>
              <a:chExt cx="630000" cy="469080"/>
            </a:xfrm>
          </p:grpSpPr>
          <p:sp>
            <p:nvSpPr>
              <p:cNvPr id="986" name=""/>
              <p:cNvSpPr/>
              <p:nvPr/>
            </p:nvSpPr>
            <p:spPr>
              <a:xfrm rot="18900000">
                <a:off x="7166160" y="121896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4400000">
                <a:off x="6900120" y="112752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6472080" y="765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4336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6198480" y="1180080"/>
              <a:ext cx="629280" cy="468720"/>
              <a:chOff x="6198480" y="1180080"/>
              <a:chExt cx="629280" cy="468720"/>
            </a:xfrm>
          </p:grpSpPr>
          <p:sp>
            <p:nvSpPr>
              <p:cNvPr id="991" name=""/>
              <p:cNvSpPr/>
              <p:nvPr/>
            </p:nvSpPr>
            <p:spPr>
              <a:xfrm rot="8100000">
                <a:off x="6319440" y="1169280"/>
                <a:ext cx="134640" cy="398520"/>
              </a:xfrm>
              <a:custGeom>
                <a:avLst/>
                <a:gdLst>
                  <a:gd name="textAreaLeft" fmla="*/ 17640 w 134640"/>
                  <a:gd name="textAreaRight" fmla="*/ 117000 w 13464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3600000">
                <a:off x="6540840" y="130716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 rot="18900000">
              <a:off x="6859080" y="1753560"/>
              <a:ext cx="228600" cy="4050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5300000">
              <a:off x="7142760" y="1860840"/>
              <a:ext cx="180720" cy="405000"/>
            </a:xfrm>
            <a:custGeom>
              <a:avLst/>
              <a:gdLst>
                <a:gd name="textAreaLeft" fmla="*/ 28800 w 180720"/>
                <a:gd name="textAreaRight" fmla="*/ 151920 w 18072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360520" y="3716280"/>
            <a:ext cx="1425600" cy="693360"/>
            <a:chOff x="2360520" y="3716280"/>
            <a:chExt cx="1425600" cy="693360"/>
          </a:xfrm>
        </p:grpSpPr>
        <p:sp>
          <p:nvSpPr>
            <p:cNvPr id="996" name=""/>
            <p:cNvSpPr/>
            <p:nvPr/>
          </p:nvSpPr>
          <p:spPr>
            <a:xfrm rot="16200000">
              <a:off x="2360520" y="37497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6200000">
              <a:off x="295092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900000">
              <a:off x="279504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264744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4620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6200000">
              <a:off x="349308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79800" y="1341360"/>
            <a:ext cx="1722600" cy="704880"/>
            <a:chOff x="379800" y="1341360"/>
            <a:chExt cx="1722600" cy="704880"/>
          </a:xfrm>
        </p:grpSpPr>
        <p:sp>
          <p:nvSpPr>
            <p:cNvPr id="1003" name=""/>
            <p:cNvSpPr/>
            <p:nvPr/>
          </p:nvSpPr>
          <p:spPr>
            <a:xfrm rot="16200000">
              <a:off x="417600" y="13413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98244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379800" y="1657800"/>
              <a:ext cx="592200" cy="388440"/>
              <a:chOff x="379800" y="1657800"/>
              <a:chExt cx="592200" cy="388440"/>
            </a:xfrm>
          </p:grpSpPr>
          <p:sp>
            <p:nvSpPr>
              <p:cNvPr id="1006" name=""/>
              <p:cNvSpPr/>
              <p:nvPr/>
            </p:nvSpPr>
            <p:spPr>
              <a:xfrm rot="3600000">
                <a:off x="68508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8100000">
                <a:off x="50076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1384200" y="1384560"/>
              <a:ext cx="718200" cy="439560"/>
              <a:chOff x="1384200" y="1384560"/>
              <a:chExt cx="718200" cy="439560"/>
            </a:xfrm>
          </p:grpSpPr>
          <p:sp>
            <p:nvSpPr>
              <p:cNvPr id="1009" name=""/>
              <p:cNvSpPr/>
              <p:nvPr/>
            </p:nvSpPr>
            <p:spPr>
              <a:xfrm flipV="1" rot="2904600">
                <a:off x="1496880" y="1401840"/>
                <a:ext cx="228600" cy="40428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6404600">
                <a:off x="1804320" y="132804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255960" y="3500280"/>
            <a:ext cx="2011320" cy="554040"/>
            <a:chOff x="255960" y="3500280"/>
            <a:chExt cx="2011320" cy="554040"/>
          </a:xfrm>
        </p:grpSpPr>
        <p:sp>
          <p:nvSpPr>
            <p:cNvPr id="1012" name=""/>
            <p:cNvSpPr/>
            <p:nvPr/>
          </p:nvSpPr>
          <p:spPr>
            <a:xfrm rot="16200000">
              <a:off x="415800" y="350028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6200000">
              <a:off x="982440" y="3439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255960" y="3780720"/>
              <a:ext cx="718200" cy="273600"/>
              <a:chOff x="255960" y="3780720"/>
              <a:chExt cx="718200" cy="273600"/>
            </a:xfrm>
          </p:grpSpPr>
          <p:sp>
            <p:nvSpPr>
              <p:cNvPr id="1015" name=""/>
              <p:cNvSpPr/>
              <p:nvPr/>
            </p:nvSpPr>
            <p:spPr>
              <a:xfrm rot="4393200">
                <a:off x="689760" y="374112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5754000">
                <a:off x="393480" y="375048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 flipV="1" rot="5809200">
              <a:off x="1585080" y="3627360"/>
              <a:ext cx="228600" cy="4050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404000">
              <a:off x="1968840" y="367668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32680" y="3141720"/>
            <a:ext cx="849240" cy="1197720"/>
            <a:chOff x="6232680" y="3141720"/>
            <a:chExt cx="849240" cy="1197720"/>
          </a:xfrm>
        </p:grpSpPr>
        <p:sp>
          <p:nvSpPr>
            <p:cNvPr id="1020" name=""/>
            <p:cNvSpPr/>
            <p:nvPr/>
          </p:nvSpPr>
          <p:spPr>
            <a:xfrm>
              <a:off x="6591240" y="31417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6288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532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6232680" y="3862080"/>
              <a:ext cx="616680" cy="447480"/>
              <a:chOff x="6232680" y="3862080"/>
              <a:chExt cx="616680" cy="447480"/>
            </a:xfrm>
          </p:grpSpPr>
          <p:sp>
            <p:nvSpPr>
              <p:cNvPr id="1024" name=""/>
              <p:cNvSpPr/>
              <p:nvPr/>
            </p:nvSpPr>
            <p:spPr>
              <a:xfrm rot="8100000">
                <a:off x="651132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700000">
                <a:off x="63493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rot="1800000">
              <a:off x="6681960" y="3933720"/>
              <a:ext cx="134640" cy="39852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392000" y="4654800"/>
            <a:ext cx="1238040" cy="1634400"/>
            <a:chOff x="4392000" y="4654800"/>
            <a:chExt cx="1238040" cy="1634400"/>
          </a:xfrm>
        </p:grpSpPr>
        <p:sp>
          <p:nvSpPr>
            <p:cNvPr id="1028" name=""/>
            <p:cNvSpPr/>
            <p:nvPr/>
          </p:nvSpPr>
          <p:spPr>
            <a:xfrm>
              <a:off x="4708440" y="518616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3500000">
              <a:off x="5317920" y="49251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8100000">
              <a:off x="5209920" y="465876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rot="8100000">
              <a:off x="4562280" y="49190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3500000">
              <a:off x="4670280" y="465264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84760" y="4728960"/>
              <a:ext cx="457200" cy="45684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4392000" y="5652000"/>
              <a:ext cx="464400" cy="637200"/>
              <a:chOff x="4392000" y="5652000"/>
              <a:chExt cx="464400" cy="637200"/>
            </a:xfrm>
          </p:grpSpPr>
          <p:sp>
            <p:nvSpPr>
              <p:cNvPr id="1035" name=""/>
              <p:cNvSpPr/>
              <p:nvPr/>
            </p:nvSpPr>
            <p:spPr>
              <a:xfrm rot="3600000">
                <a:off x="4509720" y="564948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407840" y="588456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165280" y="5652000"/>
              <a:ext cx="464760" cy="637200"/>
              <a:chOff x="5165280" y="5652000"/>
              <a:chExt cx="464760" cy="637200"/>
            </a:xfrm>
          </p:grpSpPr>
          <p:sp>
            <p:nvSpPr>
              <p:cNvPr id="1038" name=""/>
              <p:cNvSpPr/>
              <p:nvPr/>
            </p:nvSpPr>
            <p:spPr>
              <a:xfrm flipH="1" rot="18000000">
                <a:off x="5283000" y="5649480"/>
                <a:ext cx="228240" cy="40500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5432760" y="5884560"/>
                <a:ext cx="181080" cy="40464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"/>
          <p:cNvGrpSpPr/>
          <p:nvPr/>
        </p:nvGrpSpPr>
        <p:grpSpPr>
          <a:xfrm>
            <a:off x="6201720" y="4729320"/>
            <a:ext cx="1238040" cy="1560240"/>
            <a:chOff x="6201720" y="4729320"/>
            <a:chExt cx="1238040" cy="1560240"/>
          </a:xfrm>
        </p:grpSpPr>
        <p:sp>
          <p:nvSpPr>
            <p:cNvPr id="1041" name=""/>
            <p:cNvSpPr/>
            <p:nvPr/>
          </p:nvSpPr>
          <p:spPr>
            <a:xfrm>
              <a:off x="651816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594480" y="47293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6201720" y="5652360"/>
              <a:ext cx="464400" cy="637200"/>
              <a:chOff x="6201720" y="5652360"/>
              <a:chExt cx="464400" cy="637200"/>
            </a:xfrm>
          </p:grpSpPr>
          <p:sp>
            <p:nvSpPr>
              <p:cNvPr id="1044" name=""/>
              <p:cNvSpPr/>
              <p:nvPr/>
            </p:nvSpPr>
            <p:spPr>
              <a:xfrm rot="3600000">
                <a:off x="631944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1756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975360" y="5652360"/>
              <a:ext cx="464400" cy="637200"/>
              <a:chOff x="6975360" y="5652360"/>
              <a:chExt cx="464400" cy="637200"/>
            </a:xfrm>
          </p:grpSpPr>
          <p:sp>
            <p:nvSpPr>
              <p:cNvPr id="1047" name=""/>
              <p:cNvSpPr/>
              <p:nvPr/>
            </p:nvSpPr>
            <p:spPr>
              <a:xfrm flipH="1" rot="18000000">
                <a:off x="709308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724320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4320" y="5188320"/>
              <a:ext cx="485280" cy="644040"/>
              <a:chOff x="6934320" y="5188320"/>
              <a:chExt cx="485280" cy="644040"/>
            </a:xfrm>
          </p:grpSpPr>
          <p:sp>
            <p:nvSpPr>
              <p:cNvPr id="1050" name=""/>
              <p:cNvSpPr/>
              <p:nvPr/>
            </p:nvSpPr>
            <p:spPr>
              <a:xfrm flipH="1" rot="18900000">
                <a:off x="7154280" y="51861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rot="2700000">
                <a:off x="7046280" y="545328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250680" y="5189040"/>
              <a:ext cx="484920" cy="642960"/>
              <a:chOff x="6250680" y="5189040"/>
              <a:chExt cx="484920" cy="642960"/>
            </a:xfrm>
          </p:grpSpPr>
          <p:sp>
            <p:nvSpPr>
              <p:cNvPr id="1053" name=""/>
              <p:cNvSpPr/>
              <p:nvPr/>
            </p:nvSpPr>
            <p:spPr>
              <a:xfrm rot="2700000">
                <a:off x="6362640" y="51868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8900000">
                <a:off x="6471000" y="54529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"/>
          <p:cNvGrpSpPr/>
          <p:nvPr/>
        </p:nvGrpSpPr>
        <p:grpSpPr>
          <a:xfrm>
            <a:off x="8481960" y="4508640"/>
            <a:ext cx="457200" cy="1938240"/>
            <a:chOff x="8481960" y="4508640"/>
            <a:chExt cx="457200" cy="1938240"/>
          </a:xfrm>
        </p:grpSpPr>
        <p:sp>
          <p:nvSpPr>
            <p:cNvPr id="1056" name=""/>
            <p:cNvSpPr/>
            <p:nvPr/>
          </p:nvSpPr>
          <p:spPr>
            <a:xfrm>
              <a:off x="8481960" y="450864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99600" y="496584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94640" y="56851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632800" y="50371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591640" y="4729320"/>
            <a:ext cx="846000" cy="1562400"/>
            <a:chOff x="2591640" y="4729320"/>
            <a:chExt cx="846000" cy="1562400"/>
          </a:xfrm>
        </p:grpSpPr>
        <p:sp>
          <p:nvSpPr>
            <p:cNvPr id="1061" name=""/>
            <p:cNvSpPr/>
            <p:nvPr/>
          </p:nvSpPr>
          <p:spPr>
            <a:xfrm>
              <a:off x="276372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40040" y="47293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2591640" y="5653800"/>
              <a:ext cx="464760" cy="637920"/>
              <a:chOff x="2591640" y="5653800"/>
              <a:chExt cx="464760" cy="637920"/>
            </a:xfrm>
          </p:grpSpPr>
          <p:sp>
            <p:nvSpPr>
              <p:cNvPr id="1064" name=""/>
              <p:cNvSpPr/>
              <p:nvPr/>
            </p:nvSpPr>
            <p:spPr>
              <a:xfrm rot="3600000">
                <a:off x="2709360" y="5651280"/>
                <a:ext cx="228600" cy="40464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0748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880720" y="5652360"/>
              <a:ext cx="464400" cy="637200"/>
              <a:chOff x="2880720" y="5652360"/>
              <a:chExt cx="464400" cy="637200"/>
            </a:xfrm>
          </p:grpSpPr>
          <p:sp>
            <p:nvSpPr>
              <p:cNvPr id="1067" name=""/>
              <p:cNvSpPr/>
              <p:nvPr/>
            </p:nvSpPr>
            <p:spPr>
              <a:xfrm rot="3600000">
                <a:off x="299844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9656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2794680" y="5051520"/>
              <a:ext cx="642960" cy="484920"/>
              <a:chOff x="2794680" y="5051520"/>
              <a:chExt cx="642960" cy="484920"/>
            </a:xfrm>
          </p:grpSpPr>
          <p:sp>
            <p:nvSpPr>
              <p:cNvPr id="1070" name=""/>
              <p:cNvSpPr/>
              <p:nvPr/>
            </p:nvSpPr>
            <p:spPr>
              <a:xfrm flipH="1" rot="2700000">
                <a:off x="3172680" y="5157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rot="8100000">
                <a:off x="2906640" y="5049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2628360" y="5193000"/>
              <a:ext cx="611280" cy="407160"/>
              <a:chOff x="2628360" y="5193000"/>
              <a:chExt cx="611280" cy="407160"/>
            </a:xfrm>
          </p:grpSpPr>
          <p:sp>
            <p:nvSpPr>
              <p:cNvPr id="1073" name=""/>
              <p:cNvSpPr/>
              <p:nvPr/>
            </p:nvSpPr>
            <p:spPr>
              <a:xfrm rot="20700000">
                <a:off x="267480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5300000">
                <a:off x="2959560" y="5245920"/>
                <a:ext cx="152640" cy="38052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"/>
          <p:cNvGrpSpPr/>
          <p:nvPr/>
        </p:nvGrpSpPr>
        <p:grpSpPr>
          <a:xfrm>
            <a:off x="8015760" y="739800"/>
            <a:ext cx="1443960" cy="1511640"/>
            <a:chOff x="8015760" y="739800"/>
            <a:chExt cx="1443960" cy="1511640"/>
          </a:xfrm>
        </p:grpSpPr>
        <p:grpSp>
          <p:nvGrpSpPr>
            <p:cNvPr id="1076" name=""/>
            <p:cNvGrpSpPr/>
            <p:nvPr/>
          </p:nvGrpSpPr>
          <p:grpSpPr>
            <a:xfrm>
              <a:off x="8015760" y="1675080"/>
              <a:ext cx="546840" cy="576360"/>
              <a:chOff x="8015760" y="1675080"/>
              <a:chExt cx="546840" cy="576360"/>
            </a:xfrm>
          </p:grpSpPr>
          <p:sp>
            <p:nvSpPr>
              <p:cNvPr id="1077" name=""/>
              <p:cNvSpPr/>
              <p:nvPr/>
            </p:nvSpPr>
            <p:spPr>
              <a:xfrm rot="4500000">
                <a:off x="8223120" y="1635480"/>
                <a:ext cx="228600" cy="40464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900000">
                <a:off x="8064720" y="18295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8815680" y="1170360"/>
              <a:ext cx="446760" cy="520560"/>
              <a:chOff x="8815680" y="1170360"/>
              <a:chExt cx="446760" cy="520560"/>
            </a:xfrm>
          </p:grpSpPr>
          <p:sp>
            <p:nvSpPr>
              <p:cNvPr id="1080" name=""/>
              <p:cNvSpPr/>
              <p:nvPr/>
            </p:nvSpPr>
            <p:spPr>
              <a:xfrm rot="20700000">
                <a:off x="9077760" y="12816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8902080" y="108360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8408880" y="7398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480160" y="11970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8094960" y="882360"/>
              <a:ext cx="446760" cy="520560"/>
              <a:chOff x="8094960" y="882360"/>
              <a:chExt cx="446760" cy="520560"/>
            </a:xfrm>
          </p:grpSpPr>
          <p:sp>
            <p:nvSpPr>
              <p:cNvPr id="1085" name=""/>
              <p:cNvSpPr/>
              <p:nvPr/>
            </p:nvSpPr>
            <p:spPr>
              <a:xfrm rot="9900000">
                <a:off x="8144280" y="8928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5400000">
                <a:off x="8275680" y="113688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8728200" y="1675800"/>
              <a:ext cx="731520" cy="416160"/>
              <a:chOff x="8728200" y="1675800"/>
              <a:chExt cx="731520" cy="416160"/>
            </a:xfrm>
          </p:grpSpPr>
          <p:sp>
            <p:nvSpPr>
              <p:cNvPr id="1088" name=""/>
              <p:cNvSpPr/>
              <p:nvPr/>
            </p:nvSpPr>
            <p:spPr>
              <a:xfrm rot="18000000">
                <a:off x="8846280" y="1673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400000">
                <a:off x="9148680" y="170964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"/>
          <p:cNvGrpSpPr/>
          <p:nvPr/>
        </p:nvGrpSpPr>
        <p:grpSpPr>
          <a:xfrm>
            <a:off x="2323080" y="1178640"/>
            <a:ext cx="1757160" cy="867600"/>
            <a:chOff x="2323080" y="1178640"/>
            <a:chExt cx="1757160" cy="867600"/>
          </a:xfrm>
        </p:grpSpPr>
        <p:sp>
          <p:nvSpPr>
            <p:cNvPr id="1091" name=""/>
            <p:cNvSpPr/>
            <p:nvPr/>
          </p:nvSpPr>
          <p:spPr>
            <a:xfrm rot="16200000">
              <a:off x="2360520" y="13413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6200000">
              <a:off x="292572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2323080" y="1657800"/>
              <a:ext cx="592200" cy="388440"/>
              <a:chOff x="2323080" y="1657800"/>
              <a:chExt cx="592200" cy="388440"/>
            </a:xfrm>
          </p:grpSpPr>
          <p:sp>
            <p:nvSpPr>
              <p:cNvPr id="1094" name=""/>
              <p:cNvSpPr/>
              <p:nvPr/>
            </p:nvSpPr>
            <p:spPr>
              <a:xfrm rot="3600000">
                <a:off x="262836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8100000">
                <a:off x="244404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 flipV="1" rot="2663400">
              <a:off x="3439800" y="140076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4400000">
              <a:off x="3769200" y="11559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232160" y="3716280"/>
            <a:ext cx="1425600" cy="693360"/>
            <a:chOff x="4232160" y="3716280"/>
            <a:chExt cx="1425600" cy="693360"/>
          </a:xfrm>
        </p:grpSpPr>
        <p:sp>
          <p:nvSpPr>
            <p:cNvPr id="1099" name=""/>
            <p:cNvSpPr/>
            <p:nvPr/>
          </p:nvSpPr>
          <p:spPr>
            <a:xfrm flipH="1" rot="5400000">
              <a:off x="5200560" y="374976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rot="5400000">
              <a:off x="464760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rot="20700000">
              <a:off x="504324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rot="16200000">
              <a:off x="523548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444312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rot="5400000">
              <a:off x="434376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712080" y="4729320"/>
            <a:ext cx="846360" cy="1562400"/>
            <a:chOff x="712080" y="4729320"/>
            <a:chExt cx="846360" cy="1562400"/>
          </a:xfrm>
        </p:grpSpPr>
        <p:sp>
          <p:nvSpPr>
            <p:cNvPr id="1106" name=""/>
            <p:cNvSpPr/>
            <p:nvPr/>
          </p:nvSpPr>
          <p:spPr>
            <a:xfrm flipH="1">
              <a:off x="77616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852480" y="47293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093320" y="5653800"/>
              <a:ext cx="465120" cy="637920"/>
              <a:chOff x="1093320" y="5653800"/>
              <a:chExt cx="465120" cy="637920"/>
            </a:xfrm>
          </p:grpSpPr>
          <p:sp>
            <p:nvSpPr>
              <p:cNvPr id="1109" name=""/>
              <p:cNvSpPr/>
              <p:nvPr/>
            </p:nvSpPr>
            <p:spPr>
              <a:xfrm flipH="1" rot="18000000">
                <a:off x="1211400" y="5651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36152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804600" y="5652360"/>
              <a:ext cx="464400" cy="637200"/>
              <a:chOff x="804600" y="5652360"/>
              <a:chExt cx="464400" cy="637200"/>
            </a:xfrm>
          </p:grpSpPr>
          <p:sp>
            <p:nvSpPr>
              <p:cNvPr id="1112" name=""/>
              <p:cNvSpPr/>
              <p:nvPr/>
            </p:nvSpPr>
            <p:spPr>
              <a:xfrm flipH="1" rot="18000000">
                <a:off x="92232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107244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712080" y="5051520"/>
              <a:ext cx="642960" cy="484920"/>
              <a:chOff x="712080" y="5051520"/>
              <a:chExt cx="642960" cy="484920"/>
            </a:xfrm>
          </p:grpSpPr>
          <p:sp>
            <p:nvSpPr>
              <p:cNvPr id="1115" name=""/>
              <p:cNvSpPr/>
              <p:nvPr/>
            </p:nvSpPr>
            <p:spPr>
              <a:xfrm rot="18900000">
                <a:off x="824400" y="5157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3500000">
                <a:off x="1090440" y="5049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910080" y="5193000"/>
              <a:ext cx="611280" cy="407160"/>
              <a:chOff x="910080" y="5193000"/>
              <a:chExt cx="611280" cy="407160"/>
            </a:xfrm>
          </p:grpSpPr>
          <p:sp>
            <p:nvSpPr>
              <p:cNvPr id="1118" name=""/>
              <p:cNvSpPr/>
              <p:nvPr/>
            </p:nvSpPr>
            <p:spPr>
              <a:xfrm flipH="1" rot="900000">
                <a:off x="132228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 rot="6300000">
                <a:off x="1036800" y="5245920"/>
                <a:ext cx="152640" cy="38052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0" name=""/>
          <p:cNvGrpSpPr/>
          <p:nvPr/>
        </p:nvGrpSpPr>
        <p:grpSpPr>
          <a:xfrm>
            <a:off x="4221360" y="765000"/>
            <a:ext cx="1357560" cy="1789920"/>
            <a:chOff x="4221360" y="765000"/>
            <a:chExt cx="1357560" cy="1789920"/>
          </a:xfrm>
        </p:grpSpPr>
        <p:sp>
          <p:nvSpPr>
            <p:cNvPr id="1121" name=""/>
            <p:cNvSpPr/>
            <p:nvPr/>
          </p:nvSpPr>
          <p:spPr>
            <a:xfrm rot="1800000">
              <a:off x="4625640" y="180504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900000">
              <a:off x="4520880" y="21333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8900000">
              <a:off x="5322960" y="1396800"/>
              <a:ext cx="135000" cy="39816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160"/>
                <a:gd name="textAreaBottom" fmla="*/ 34524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7100000">
              <a:off x="5038920" y="1254600"/>
              <a:ext cx="179640" cy="352440"/>
            </a:xfrm>
            <a:custGeom>
              <a:avLst/>
              <a:gdLst>
                <a:gd name="textAreaLeft" fmla="*/ 23760 w 179640"/>
                <a:gd name="textAreaRight" fmla="*/ 155880 w 17964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00440" y="76500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7208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4500000">
              <a:off x="4363560" y="142524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3600000">
              <a:off x="4669200" y="130716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4826520" y="1831680"/>
              <a:ext cx="585720" cy="713160"/>
              <a:chOff x="4826520" y="1831680"/>
              <a:chExt cx="585720" cy="713160"/>
            </a:xfrm>
          </p:grpSpPr>
          <p:sp>
            <p:nvSpPr>
              <p:cNvPr id="1130" name=""/>
              <p:cNvSpPr/>
              <p:nvPr/>
            </p:nvSpPr>
            <p:spPr>
              <a:xfrm rot="20020800">
                <a:off x="4904280" y="1861200"/>
                <a:ext cx="228240" cy="40428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120800">
                <a:off x="5120280" y="213084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"/>
          <p:cNvGrpSpPr/>
          <p:nvPr/>
        </p:nvGrpSpPr>
        <p:grpSpPr>
          <a:xfrm>
            <a:off x="8193240" y="3141720"/>
            <a:ext cx="849240" cy="1198080"/>
            <a:chOff x="8193240" y="3141720"/>
            <a:chExt cx="849240" cy="1198080"/>
          </a:xfrm>
        </p:grpSpPr>
        <p:sp>
          <p:nvSpPr>
            <p:cNvPr id="1133" name=""/>
            <p:cNvSpPr/>
            <p:nvPr/>
          </p:nvSpPr>
          <p:spPr>
            <a:xfrm flipH="1">
              <a:off x="8226720" y="3141720"/>
              <a:ext cx="457200" cy="457200"/>
            </a:xfrm>
            <a:prstGeom prst="ellipse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819324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83426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8425800" y="3862080"/>
              <a:ext cx="616680" cy="447480"/>
              <a:chOff x="8425800" y="3862080"/>
              <a:chExt cx="616680" cy="447480"/>
            </a:xfrm>
          </p:grpSpPr>
          <p:sp>
            <p:nvSpPr>
              <p:cNvPr id="1137" name=""/>
              <p:cNvSpPr/>
              <p:nvPr/>
            </p:nvSpPr>
            <p:spPr>
              <a:xfrm flipH="1" rot="13500000">
                <a:off x="853488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 rot="18900000">
                <a:off x="87451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 flipH="1" rot="19800000">
              <a:off x="8458560" y="3933720"/>
              <a:ext cx="134640" cy="39888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880"/>
                <a:gd name="textAreaBottom" fmla="*/ 345960 h 39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6197040" y="765000"/>
            <a:ext cx="1253880" cy="1731240"/>
            <a:chOff x="6197040" y="765000"/>
            <a:chExt cx="1253880" cy="1731240"/>
          </a:xfrm>
        </p:grpSpPr>
        <p:grpSp>
          <p:nvGrpSpPr>
            <p:cNvPr id="1141" name=""/>
            <p:cNvGrpSpPr/>
            <p:nvPr/>
          </p:nvGrpSpPr>
          <p:grpSpPr>
            <a:xfrm>
              <a:off x="6410160" y="1776600"/>
              <a:ext cx="400320" cy="719640"/>
              <a:chOff x="6410160" y="1776600"/>
              <a:chExt cx="400320" cy="719640"/>
            </a:xfrm>
          </p:grpSpPr>
          <p:sp>
            <p:nvSpPr>
              <p:cNvPr id="1142" name=""/>
              <p:cNvSpPr/>
              <p:nvPr/>
            </p:nvSpPr>
            <p:spPr>
              <a:xfrm rot="1800000">
                <a:off x="6495840" y="18064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9800000">
                <a:off x="6527880" y="207288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6791040" y="1137960"/>
              <a:ext cx="630000" cy="469080"/>
              <a:chOff x="6791040" y="1137960"/>
              <a:chExt cx="630000" cy="469080"/>
            </a:xfrm>
          </p:grpSpPr>
          <p:sp>
            <p:nvSpPr>
              <p:cNvPr id="1145" name=""/>
              <p:cNvSpPr/>
              <p:nvPr/>
            </p:nvSpPr>
            <p:spPr>
              <a:xfrm rot="18900000">
                <a:off x="7164720" y="121896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4400000">
                <a:off x="6898680" y="112752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>
              <a:off x="6470640" y="765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54192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6197040" y="1180080"/>
              <a:ext cx="629280" cy="468720"/>
              <a:chOff x="6197040" y="1180080"/>
              <a:chExt cx="629280" cy="468720"/>
            </a:xfrm>
          </p:grpSpPr>
          <p:sp>
            <p:nvSpPr>
              <p:cNvPr id="1150" name=""/>
              <p:cNvSpPr/>
              <p:nvPr/>
            </p:nvSpPr>
            <p:spPr>
              <a:xfrm rot="8100000">
                <a:off x="6318000" y="1169280"/>
                <a:ext cx="134640" cy="398520"/>
              </a:xfrm>
              <a:custGeom>
                <a:avLst/>
                <a:gdLst>
                  <a:gd name="textAreaLeft" fmla="*/ 17640 w 134640"/>
                  <a:gd name="textAreaRight" fmla="*/ 117000 w 13464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3600000">
                <a:off x="6539400" y="130716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 rot="18900000">
              <a:off x="6857640" y="1753560"/>
              <a:ext cx="228600" cy="40500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5300000">
              <a:off x="7141320" y="1860840"/>
              <a:ext cx="180720" cy="405000"/>
            </a:xfrm>
            <a:custGeom>
              <a:avLst/>
              <a:gdLst>
                <a:gd name="textAreaLeft" fmla="*/ 28800 w 180720"/>
                <a:gd name="textAreaRight" fmla="*/ 151920 w 18072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359080" y="3716280"/>
            <a:ext cx="1425600" cy="693360"/>
            <a:chOff x="2359080" y="3716280"/>
            <a:chExt cx="1425600" cy="693360"/>
          </a:xfrm>
        </p:grpSpPr>
        <p:sp>
          <p:nvSpPr>
            <p:cNvPr id="1155" name=""/>
            <p:cNvSpPr/>
            <p:nvPr/>
          </p:nvSpPr>
          <p:spPr>
            <a:xfrm rot="16200000">
              <a:off x="2359080" y="37497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294948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900000">
              <a:off x="279360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5400000">
              <a:off x="264600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4476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349164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78000" y="1341360"/>
            <a:ext cx="1722600" cy="704880"/>
            <a:chOff x="378000" y="1341360"/>
            <a:chExt cx="1722600" cy="704880"/>
          </a:xfrm>
        </p:grpSpPr>
        <p:sp>
          <p:nvSpPr>
            <p:cNvPr id="1162" name=""/>
            <p:cNvSpPr/>
            <p:nvPr/>
          </p:nvSpPr>
          <p:spPr>
            <a:xfrm rot="16200000">
              <a:off x="415800" y="13413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98064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378000" y="1657800"/>
              <a:ext cx="592200" cy="388440"/>
              <a:chOff x="378000" y="1657800"/>
              <a:chExt cx="592200" cy="388440"/>
            </a:xfrm>
          </p:grpSpPr>
          <p:sp>
            <p:nvSpPr>
              <p:cNvPr id="1165" name=""/>
              <p:cNvSpPr/>
              <p:nvPr/>
            </p:nvSpPr>
            <p:spPr>
              <a:xfrm rot="3600000">
                <a:off x="68328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8100000">
                <a:off x="49896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1382400" y="1384560"/>
              <a:ext cx="718200" cy="439560"/>
              <a:chOff x="1382400" y="1384560"/>
              <a:chExt cx="718200" cy="439560"/>
            </a:xfrm>
          </p:grpSpPr>
          <p:sp>
            <p:nvSpPr>
              <p:cNvPr id="1168" name=""/>
              <p:cNvSpPr/>
              <p:nvPr/>
            </p:nvSpPr>
            <p:spPr>
              <a:xfrm flipV="1" rot="2904600">
                <a:off x="1495080" y="1401840"/>
                <a:ext cx="228600" cy="40428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6404600">
                <a:off x="1802520" y="1328040"/>
                <a:ext cx="181080" cy="40500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0" name=""/>
          <p:cNvGrpSpPr/>
          <p:nvPr/>
        </p:nvGrpSpPr>
        <p:grpSpPr>
          <a:xfrm>
            <a:off x="254880" y="3500280"/>
            <a:ext cx="2010240" cy="553680"/>
            <a:chOff x="254880" y="3500280"/>
            <a:chExt cx="2010240" cy="553680"/>
          </a:xfrm>
        </p:grpSpPr>
        <p:sp>
          <p:nvSpPr>
            <p:cNvPr id="1171" name=""/>
            <p:cNvSpPr/>
            <p:nvPr/>
          </p:nvSpPr>
          <p:spPr>
            <a:xfrm rot="16200000">
              <a:off x="413640" y="350028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980640" y="3440160"/>
              <a:ext cx="419040" cy="68544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254880" y="3780720"/>
              <a:ext cx="717480" cy="273240"/>
              <a:chOff x="254880" y="3780720"/>
              <a:chExt cx="717480" cy="273240"/>
            </a:xfrm>
          </p:grpSpPr>
          <p:sp>
            <p:nvSpPr>
              <p:cNvPr id="1174" name=""/>
              <p:cNvSpPr/>
              <p:nvPr/>
            </p:nvSpPr>
            <p:spPr>
              <a:xfrm rot="4393200">
                <a:off x="687960" y="374112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5754000">
                <a:off x="392400" y="3750480"/>
                <a:ext cx="135000" cy="39816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160"/>
                  <a:gd name="textAreaBottom" fmla="*/ 345240 h 39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 flipV="1" rot="5809200">
              <a:off x="1583280" y="362772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6404000">
              <a:off x="1967040" y="367704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6230880" y="3141720"/>
            <a:ext cx="849240" cy="1197720"/>
            <a:chOff x="6230880" y="3141720"/>
            <a:chExt cx="849240" cy="1197720"/>
          </a:xfrm>
        </p:grpSpPr>
        <p:sp>
          <p:nvSpPr>
            <p:cNvPr id="1179" name=""/>
            <p:cNvSpPr/>
            <p:nvPr/>
          </p:nvSpPr>
          <p:spPr>
            <a:xfrm>
              <a:off x="6589440" y="31417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6108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514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6230880" y="3862080"/>
              <a:ext cx="616680" cy="447480"/>
              <a:chOff x="6230880" y="3862080"/>
              <a:chExt cx="616680" cy="447480"/>
            </a:xfrm>
          </p:grpSpPr>
          <p:sp>
            <p:nvSpPr>
              <p:cNvPr id="1183" name=""/>
              <p:cNvSpPr/>
              <p:nvPr/>
            </p:nvSpPr>
            <p:spPr>
              <a:xfrm rot="8100000">
                <a:off x="650952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2700000">
                <a:off x="63475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 rot="1800000">
              <a:off x="6680160" y="3933720"/>
              <a:ext cx="134640" cy="39852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390200" y="4654800"/>
            <a:ext cx="1238040" cy="1634400"/>
            <a:chOff x="4390200" y="4654800"/>
            <a:chExt cx="1238040" cy="1634400"/>
          </a:xfrm>
        </p:grpSpPr>
        <p:sp>
          <p:nvSpPr>
            <p:cNvPr id="1187" name=""/>
            <p:cNvSpPr/>
            <p:nvPr/>
          </p:nvSpPr>
          <p:spPr>
            <a:xfrm>
              <a:off x="4706640" y="5186160"/>
              <a:ext cx="609840" cy="68544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440"/>
                <a:gd name="textAreaBottom" fmla="*/ 5943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13500000">
              <a:off x="5316120" y="492516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8100000">
              <a:off x="5208120" y="4658760"/>
              <a:ext cx="152280" cy="38052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50400 h 380520"/>
                <a:gd name="textAreaBottom" fmla="*/ 3301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rot="8100000">
              <a:off x="4560480" y="4919040"/>
              <a:ext cx="151560" cy="381240"/>
            </a:xfrm>
            <a:custGeom>
              <a:avLst/>
              <a:gdLst>
                <a:gd name="textAreaLeft" fmla="*/ 20160 w 151560"/>
                <a:gd name="textAreaRight" fmla="*/ 131400 w 151560"/>
                <a:gd name="textAreaTop" fmla="*/ 50760 h 381240"/>
                <a:gd name="textAreaBottom" fmla="*/ 330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rot="13500000">
              <a:off x="4668480" y="4652640"/>
              <a:ext cx="152640" cy="3808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50400 h 380880"/>
                <a:gd name="textAreaBottom" fmla="*/ 330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82960" y="4728960"/>
              <a:ext cx="457200" cy="4568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4390200" y="5652000"/>
              <a:ext cx="464400" cy="637200"/>
              <a:chOff x="4390200" y="5652000"/>
              <a:chExt cx="464400" cy="637200"/>
            </a:xfrm>
          </p:grpSpPr>
          <p:sp>
            <p:nvSpPr>
              <p:cNvPr id="1194" name=""/>
              <p:cNvSpPr/>
              <p:nvPr/>
            </p:nvSpPr>
            <p:spPr>
              <a:xfrm rot="3600000">
                <a:off x="4507920" y="564948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406040" y="588456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5163480" y="5652000"/>
              <a:ext cx="464760" cy="637200"/>
              <a:chOff x="5163480" y="5652000"/>
              <a:chExt cx="464760" cy="637200"/>
            </a:xfrm>
          </p:grpSpPr>
          <p:sp>
            <p:nvSpPr>
              <p:cNvPr id="1197" name=""/>
              <p:cNvSpPr/>
              <p:nvPr/>
            </p:nvSpPr>
            <p:spPr>
              <a:xfrm flipH="1" rot="18000000">
                <a:off x="5281200" y="5649480"/>
                <a:ext cx="228240" cy="40500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5430960" y="5884560"/>
                <a:ext cx="181080" cy="404640"/>
              </a:xfrm>
              <a:custGeom>
                <a:avLst/>
                <a:gdLst>
                  <a:gd name="textAreaLeft" fmla="*/ 28800 w 181080"/>
                  <a:gd name="textAreaRight" fmla="*/ 152280 w 18108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6199920" y="4729320"/>
            <a:ext cx="1238040" cy="1560240"/>
            <a:chOff x="6199920" y="4729320"/>
            <a:chExt cx="1238040" cy="1560240"/>
          </a:xfrm>
        </p:grpSpPr>
        <p:sp>
          <p:nvSpPr>
            <p:cNvPr id="1200" name=""/>
            <p:cNvSpPr/>
            <p:nvPr/>
          </p:nvSpPr>
          <p:spPr>
            <a:xfrm>
              <a:off x="651636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592680" y="47293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6199920" y="5652360"/>
              <a:ext cx="464400" cy="637200"/>
              <a:chOff x="6199920" y="5652360"/>
              <a:chExt cx="464400" cy="637200"/>
            </a:xfrm>
          </p:grpSpPr>
          <p:sp>
            <p:nvSpPr>
              <p:cNvPr id="1203" name=""/>
              <p:cNvSpPr/>
              <p:nvPr/>
            </p:nvSpPr>
            <p:spPr>
              <a:xfrm rot="3600000">
                <a:off x="631764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1576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6973560" y="5652360"/>
              <a:ext cx="464400" cy="637200"/>
              <a:chOff x="6973560" y="5652360"/>
              <a:chExt cx="464400" cy="637200"/>
            </a:xfrm>
          </p:grpSpPr>
          <p:sp>
            <p:nvSpPr>
              <p:cNvPr id="1206" name=""/>
              <p:cNvSpPr/>
              <p:nvPr/>
            </p:nvSpPr>
            <p:spPr>
              <a:xfrm flipH="1" rot="18000000">
                <a:off x="709128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724140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6932520" y="5188320"/>
              <a:ext cx="485280" cy="644040"/>
              <a:chOff x="6932520" y="5188320"/>
              <a:chExt cx="485280" cy="644040"/>
            </a:xfrm>
          </p:grpSpPr>
          <p:sp>
            <p:nvSpPr>
              <p:cNvPr id="1209" name=""/>
              <p:cNvSpPr/>
              <p:nvPr/>
            </p:nvSpPr>
            <p:spPr>
              <a:xfrm flipH="1" rot="18900000">
                <a:off x="7152480" y="518616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 rot="2700000">
                <a:off x="7044480" y="5453280"/>
                <a:ext cx="152640" cy="38088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6248880" y="5189040"/>
              <a:ext cx="484920" cy="642960"/>
              <a:chOff x="6248880" y="5189040"/>
              <a:chExt cx="484920" cy="642960"/>
            </a:xfrm>
          </p:grpSpPr>
          <p:sp>
            <p:nvSpPr>
              <p:cNvPr id="1212" name=""/>
              <p:cNvSpPr/>
              <p:nvPr/>
            </p:nvSpPr>
            <p:spPr>
              <a:xfrm rot="2700000">
                <a:off x="6360840" y="518688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8900000">
                <a:off x="6469200" y="545292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8480520" y="4508640"/>
            <a:ext cx="457200" cy="1938240"/>
            <a:chOff x="8480520" y="4508640"/>
            <a:chExt cx="457200" cy="1938240"/>
          </a:xfrm>
        </p:grpSpPr>
        <p:sp>
          <p:nvSpPr>
            <p:cNvPr id="1215" name=""/>
            <p:cNvSpPr/>
            <p:nvPr/>
          </p:nvSpPr>
          <p:spPr>
            <a:xfrm>
              <a:off x="8480520" y="450864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498160" y="496584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93200" y="5685120"/>
              <a:ext cx="228600" cy="76176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120960 h 761760"/>
                <a:gd name="textAreaBottom" fmla="*/ 6408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631360" y="5037120"/>
              <a:ext cx="152280" cy="6858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2589840" y="4729320"/>
            <a:ext cx="845640" cy="1562400"/>
            <a:chOff x="2589840" y="4729320"/>
            <a:chExt cx="845640" cy="1562400"/>
          </a:xfrm>
        </p:grpSpPr>
        <p:sp>
          <p:nvSpPr>
            <p:cNvPr id="1220" name=""/>
            <p:cNvSpPr/>
            <p:nvPr/>
          </p:nvSpPr>
          <p:spPr>
            <a:xfrm>
              <a:off x="2761920" y="5186520"/>
              <a:ext cx="609480" cy="685800"/>
            </a:xfrm>
            <a:custGeom>
              <a:avLst/>
              <a:gdLst>
                <a:gd name="textAreaLeft" fmla="*/ 81000 w 609480"/>
                <a:gd name="textAreaRight" fmla="*/ 528480 w 60948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38240" y="4729320"/>
              <a:ext cx="45684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2589840" y="5654160"/>
              <a:ext cx="464760" cy="637560"/>
              <a:chOff x="2589840" y="5654160"/>
              <a:chExt cx="464760" cy="637560"/>
            </a:xfrm>
          </p:grpSpPr>
          <p:sp>
            <p:nvSpPr>
              <p:cNvPr id="1223" name=""/>
              <p:cNvSpPr/>
              <p:nvPr/>
            </p:nvSpPr>
            <p:spPr>
              <a:xfrm rot="3600000">
                <a:off x="2707560" y="5652000"/>
                <a:ext cx="228600" cy="40428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0532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2878560" y="5652720"/>
              <a:ext cx="464400" cy="636840"/>
              <a:chOff x="2878560" y="5652720"/>
              <a:chExt cx="464400" cy="636840"/>
            </a:xfrm>
          </p:grpSpPr>
          <p:sp>
            <p:nvSpPr>
              <p:cNvPr id="1226" name=""/>
              <p:cNvSpPr/>
              <p:nvPr/>
            </p:nvSpPr>
            <p:spPr>
              <a:xfrm rot="3600000">
                <a:off x="2996640" y="5650200"/>
                <a:ext cx="228240" cy="40428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9404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2792160" y="5051880"/>
              <a:ext cx="643320" cy="484920"/>
              <a:chOff x="2792160" y="5051880"/>
              <a:chExt cx="643320" cy="484920"/>
            </a:xfrm>
          </p:grpSpPr>
          <p:sp>
            <p:nvSpPr>
              <p:cNvPr id="1229" name=""/>
              <p:cNvSpPr/>
              <p:nvPr/>
            </p:nvSpPr>
            <p:spPr>
              <a:xfrm flipH="1" rot="2700000">
                <a:off x="3170520" y="5157720"/>
                <a:ext cx="151560" cy="381240"/>
              </a:xfrm>
              <a:custGeom>
                <a:avLst/>
                <a:gdLst>
                  <a:gd name="textAreaLeft" fmla="*/ 20160 w 151560"/>
                  <a:gd name="textAreaRight" fmla="*/ 131400 w 151560"/>
                  <a:gd name="textAreaTop" fmla="*/ 50760 h 381240"/>
                  <a:gd name="textAreaBottom" fmla="*/ 330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rot="8100000">
                <a:off x="2903760" y="5049720"/>
                <a:ext cx="152280" cy="38052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2626920" y="5193000"/>
              <a:ext cx="610560" cy="407160"/>
              <a:chOff x="2626920" y="5193000"/>
              <a:chExt cx="610560" cy="407160"/>
            </a:xfrm>
          </p:grpSpPr>
          <p:sp>
            <p:nvSpPr>
              <p:cNvPr id="1232" name=""/>
              <p:cNvSpPr/>
              <p:nvPr/>
            </p:nvSpPr>
            <p:spPr>
              <a:xfrm rot="20700000">
                <a:off x="267336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5300000">
                <a:off x="2957760" y="5246280"/>
                <a:ext cx="152640" cy="38016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160"/>
                  <a:gd name="textAreaBottom" fmla="*/ 329760 h 38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8014320" y="739800"/>
            <a:ext cx="1443960" cy="1511640"/>
            <a:chOff x="8014320" y="739800"/>
            <a:chExt cx="1443960" cy="1511640"/>
          </a:xfrm>
        </p:grpSpPr>
        <p:grpSp>
          <p:nvGrpSpPr>
            <p:cNvPr id="1235" name=""/>
            <p:cNvGrpSpPr/>
            <p:nvPr/>
          </p:nvGrpSpPr>
          <p:grpSpPr>
            <a:xfrm>
              <a:off x="8014320" y="1675080"/>
              <a:ext cx="546840" cy="576360"/>
              <a:chOff x="8014320" y="1675080"/>
              <a:chExt cx="546840" cy="576360"/>
            </a:xfrm>
          </p:grpSpPr>
          <p:sp>
            <p:nvSpPr>
              <p:cNvPr id="1236" name=""/>
              <p:cNvSpPr/>
              <p:nvPr/>
            </p:nvSpPr>
            <p:spPr>
              <a:xfrm rot="4500000">
                <a:off x="8221680" y="1635480"/>
                <a:ext cx="228600" cy="40464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900000">
                <a:off x="8063280" y="18295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8814240" y="1170360"/>
              <a:ext cx="446760" cy="520560"/>
              <a:chOff x="8814240" y="1170360"/>
              <a:chExt cx="446760" cy="520560"/>
            </a:xfrm>
          </p:grpSpPr>
          <p:sp>
            <p:nvSpPr>
              <p:cNvPr id="1239" name=""/>
              <p:cNvSpPr/>
              <p:nvPr/>
            </p:nvSpPr>
            <p:spPr>
              <a:xfrm rot="20700000">
                <a:off x="9076320" y="12816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6200000">
                <a:off x="8900640" y="108360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8407440" y="7398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78720" y="11970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8093520" y="882360"/>
              <a:ext cx="446760" cy="520560"/>
              <a:chOff x="8093520" y="882360"/>
              <a:chExt cx="446760" cy="520560"/>
            </a:xfrm>
          </p:grpSpPr>
          <p:sp>
            <p:nvSpPr>
              <p:cNvPr id="1244" name=""/>
              <p:cNvSpPr/>
              <p:nvPr/>
            </p:nvSpPr>
            <p:spPr>
              <a:xfrm rot="9900000">
                <a:off x="8142840" y="8928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5400000">
                <a:off x="8274240" y="1136880"/>
                <a:ext cx="179280" cy="35244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440"/>
                  <a:gd name="textAreaBottom" fmla="*/ 305640 h 35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8726760" y="1675800"/>
              <a:ext cx="731520" cy="416160"/>
              <a:chOff x="8726760" y="1675800"/>
              <a:chExt cx="731520" cy="416160"/>
            </a:xfrm>
          </p:grpSpPr>
          <p:sp>
            <p:nvSpPr>
              <p:cNvPr id="1247" name=""/>
              <p:cNvSpPr/>
              <p:nvPr/>
            </p:nvSpPr>
            <p:spPr>
              <a:xfrm rot="18000000">
                <a:off x="8844840" y="1673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4400000">
                <a:off x="9147240" y="170964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"/>
          <p:cNvGrpSpPr/>
          <p:nvPr/>
        </p:nvGrpSpPr>
        <p:grpSpPr>
          <a:xfrm>
            <a:off x="2321640" y="1178640"/>
            <a:ext cx="1757160" cy="867600"/>
            <a:chOff x="2321640" y="1178640"/>
            <a:chExt cx="1757160" cy="867600"/>
          </a:xfrm>
        </p:grpSpPr>
        <p:sp>
          <p:nvSpPr>
            <p:cNvPr id="1250" name=""/>
            <p:cNvSpPr/>
            <p:nvPr/>
          </p:nvSpPr>
          <p:spPr>
            <a:xfrm rot="16200000">
              <a:off x="2359080" y="13413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2924280" y="14238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2321640" y="1657800"/>
              <a:ext cx="592200" cy="388440"/>
              <a:chOff x="2321640" y="1657800"/>
              <a:chExt cx="592200" cy="388440"/>
            </a:xfrm>
          </p:grpSpPr>
          <p:sp>
            <p:nvSpPr>
              <p:cNvPr id="1253" name=""/>
              <p:cNvSpPr/>
              <p:nvPr/>
            </p:nvSpPr>
            <p:spPr>
              <a:xfrm rot="3600000">
                <a:off x="2626920" y="1704600"/>
                <a:ext cx="179280" cy="352080"/>
              </a:xfrm>
              <a:custGeom>
                <a:avLst/>
                <a:gdLst>
                  <a:gd name="textAreaLeft" fmla="*/ 23760 w 179280"/>
                  <a:gd name="textAreaRight" fmla="*/ 155520 w 179280"/>
                  <a:gd name="textAreaTop" fmla="*/ 46800 h 352080"/>
                  <a:gd name="textAreaBottom" fmla="*/ 305280 h 35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8100000">
                <a:off x="2442600" y="1647000"/>
                <a:ext cx="135000" cy="398520"/>
              </a:xfrm>
              <a:custGeom>
                <a:avLst/>
                <a:gdLst>
                  <a:gd name="textAreaLeft" fmla="*/ 18000 w 135000"/>
                  <a:gd name="textAreaRight" fmla="*/ 117000 w 135000"/>
                  <a:gd name="textAreaTop" fmla="*/ 52920 h 398520"/>
                  <a:gd name="textAreaBottom" fmla="*/ 345600 h 39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 flipV="1" rot="2663400">
              <a:off x="3438360" y="140076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4400000">
              <a:off x="3767760" y="11559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4230720" y="3716280"/>
            <a:ext cx="1425600" cy="693360"/>
            <a:chOff x="4230720" y="3716280"/>
            <a:chExt cx="1425600" cy="693360"/>
          </a:xfrm>
        </p:grpSpPr>
        <p:sp>
          <p:nvSpPr>
            <p:cNvPr id="1258" name=""/>
            <p:cNvSpPr/>
            <p:nvPr/>
          </p:nvSpPr>
          <p:spPr>
            <a:xfrm flipH="1" rot="5400000">
              <a:off x="5199120" y="374976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rot="5400000">
              <a:off x="4646160" y="35827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rot="20700000">
              <a:off x="5041800" y="4039920"/>
              <a:ext cx="179280" cy="35208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080"/>
                <a:gd name="textAreaBottom" fmla="*/ 30528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rot="16200000">
              <a:off x="5234040" y="413856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4441680" y="394488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rot="5400000">
              <a:off x="4342320" y="4086360"/>
              <a:ext cx="181080" cy="40500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5000"/>
                <a:gd name="textAreaBottom" fmla="*/ 340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710640" y="4729320"/>
            <a:ext cx="846360" cy="1562400"/>
            <a:chOff x="710640" y="4729320"/>
            <a:chExt cx="846360" cy="1562400"/>
          </a:xfrm>
        </p:grpSpPr>
        <p:sp>
          <p:nvSpPr>
            <p:cNvPr id="1265" name=""/>
            <p:cNvSpPr/>
            <p:nvPr/>
          </p:nvSpPr>
          <p:spPr>
            <a:xfrm flipH="1">
              <a:off x="774720" y="5186520"/>
              <a:ext cx="609840" cy="685800"/>
            </a:xfrm>
            <a:custGeom>
              <a:avLst/>
              <a:gdLst>
                <a:gd name="textAreaLeft" fmla="*/ 81000 w 609840"/>
                <a:gd name="textAreaRight" fmla="*/ 528840 w 6098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851040" y="47293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1091880" y="5653800"/>
              <a:ext cx="465120" cy="637920"/>
              <a:chOff x="1091880" y="5653800"/>
              <a:chExt cx="465120" cy="637920"/>
            </a:xfrm>
          </p:grpSpPr>
          <p:sp>
            <p:nvSpPr>
              <p:cNvPr id="1268" name=""/>
              <p:cNvSpPr/>
              <p:nvPr/>
            </p:nvSpPr>
            <p:spPr>
              <a:xfrm flipH="1" rot="18000000">
                <a:off x="1209960" y="5651280"/>
                <a:ext cx="228600" cy="405000"/>
              </a:xfrm>
              <a:custGeom>
                <a:avLst/>
                <a:gdLst>
                  <a:gd name="textAreaLeft" fmla="*/ 36360 w 228600"/>
                  <a:gd name="textAreaRight" fmla="*/ 192240 w 22860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1360080" y="5886720"/>
                <a:ext cx="180720" cy="40500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5000"/>
                  <a:gd name="textAreaBottom" fmla="*/ 3405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803160" y="5652360"/>
              <a:ext cx="464400" cy="637200"/>
              <a:chOff x="803160" y="5652360"/>
              <a:chExt cx="464400" cy="637200"/>
            </a:xfrm>
          </p:grpSpPr>
          <p:sp>
            <p:nvSpPr>
              <p:cNvPr id="1271" name=""/>
              <p:cNvSpPr/>
              <p:nvPr/>
            </p:nvSpPr>
            <p:spPr>
              <a:xfrm flipH="1" rot="18000000">
                <a:off x="920880" y="564984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1071000" y="58849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710640" y="5051520"/>
              <a:ext cx="642960" cy="484920"/>
              <a:chOff x="710640" y="5051520"/>
              <a:chExt cx="642960" cy="484920"/>
            </a:xfrm>
          </p:grpSpPr>
          <p:sp>
            <p:nvSpPr>
              <p:cNvPr id="1274" name=""/>
              <p:cNvSpPr/>
              <p:nvPr/>
            </p:nvSpPr>
            <p:spPr>
              <a:xfrm rot="18900000">
                <a:off x="822960" y="5157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3500000">
                <a:off x="1089000" y="50493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908640" y="5193000"/>
              <a:ext cx="611280" cy="407160"/>
              <a:chOff x="908640" y="5193000"/>
              <a:chExt cx="611280" cy="407160"/>
            </a:xfrm>
          </p:grpSpPr>
          <p:sp>
            <p:nvSpPr>
              <p:cNvPr id="1277" name=""/>
              <p:cNvSpPr/>
              <p:nvPr/>
            </p:nvSpPr>
            <p:spPr>
              <a:xfrm flipH="1" rot="900000">
                <a:off x="1320840" y="5205960"/>
                <a:ext cx="152280" cy="380880"/>
              </a:xfrm>
              <a:custGeom>
                <a:avLst/>
                <a:gdLst>
                  <a:gd name="textAreaLeft" fmla="*/ 20160 w 152280"/>
                  <a:gd name="textAreaRight" fmla="*/ 132120 w 152280"/>
                  <a:gd name="textAreaTop" fmla="*/ 50400 h 380880"/>
                  <a:gd name="textAreaBottom" fmla="*/ 33048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rot="6300000">
                <a:off x="1035360" y="5245920"/>
                <a:ext cx="152640" cy="38052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50400 h 380520"/>
                  <a:gd name="textAreaBottom" fmla="*/ 3301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75" y="21600"/>
                    </a:lnTo>
                    <a:lnTo>
                      <a:pt x="2025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4219920" y="765000"/>
            <a:ext cx="1357560" cy="1789920"/>
            <a:chOff x="4219920" y="765000"/>
            <a:chExt cx="1357560" cy="1789920"/>
          </a:xfrm>
        </p:grpSpPr>
        <p:sp>
          <p:nvSpPr>
            <p:cNvPr id="1280" name=""/>
            <p:cNvSpPr/>
            <p:nvPr/>
          </p:nvSpPr>
          <p:spPr>
            <a:xfrm rot="1800000">
              <a:off x="4624200" y="1805040"/>
              <a:ext cx="228600" cy="404640"/>
            </a:xfrm>
            <a:custGeom>
              <a:avLst/>
              <a:gdLst>
                <a:gd name="textAreaLeft" fmla="*/ 36360 w 228600"/>
                <a:gd name="textAreaRight" fmla="*/ 192240 w 22860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900000">
              <a:off x="4519440" y="2133360"/>
              <a:ext cx="181080" cy="404640"/>
            </a:xfrm>
            <a:custGeom>
              <a:avLst/>
              <a:gdLst>
                <a:gd name="textAreaLeft" fmla="*/ 28800 w 181080"/>
                <a:gd name="textAreaRight" fmla="*/ 152280 w 181080"/>
                <a:gd name="textAreaTop" fmla="*/ 64440 h 404640"/>
                <a:gd name="textAreaBottom" fmla="*/ 3402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62" y="21600"/>
                  </a:lnTo>
                  <a:lnTo>
                    <a:pt x="3038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18900000">
              <a:off x="5321520" y="1396800"/>
              <a:ext cx="135000" cy="39816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160"/>
                <a:gd name="textAreaBottom" fmla="*/ 34524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7100000">
              <a:off x="5037480" y="1254600"/>
              <a:ext cx="179640" cy="352440"/>
            </a:xfrm>
            <a:custGeom>
              <a:avLst/>
              <a:gdLst>
                <a:gd name="textAreaLeft" fmla="*/ 23760 w 179640"/>
                <a:gd name="textAreaRight" fmla="*/ 155880 w 17964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599000" y="76500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70640" y="122220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4500000">
              <a:off x="4362120" y="1425240"/>
              <a:ext cx="135000" cy="398520"/>
            </a:xfrm>
            <a:custGeom>
              <a:avLst/>
              <a:gdLst>
                <a:gd name="textAreaLeft" fmla="*/ 18000 w 135000"/>
                <a:gd name="textAreaRight" fmla="*/ 117000 w 135000"/>
                <a:gd name="textAreaTop" fmla="*/ 52920 h 398520"/>
                <a:gd name="textAreaBottom" fmla="*/ 3456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3600000">
              <a:off x="4667760" y="130716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"/>
            <p:cNvGrpSpPr/>
            <p:nvPr/>
          </p:nvGrpSpPr>
          <p:grpSpPr>
            <a:xfrm>
              <a:off x="4825080" y="1831680"/>
              <a:ext cx="585720" cy="713160"/>
              <a:chOff x="4825080" y="1831680"/>
              <a:chExt cx="585720" cy="713160"/>
            </a:xfrm>
          </p:grpSpPr>
          <p:sp>
            <p:nvSpPr>
              <p:cNvPr id="1289" name=""/>
              <p:cNvSpPr/>
              <p:nvPr/>
            </p:nvSpPr>
            <p:spPr>
              <a:xfrm rot="20020800">
                <a:off x="4902840" y="1861200"/>
                <a:ext cx="228240" cy="40428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080 h 404280"/>
                  <a:gd name="textAreaBottom" fmla="*/ 340200 h 40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9120800">
                <a:off x="5118840" y="213084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"/>
          <p:cNvGrpSpPr/>
          <p:nvPr/>
        </p:nvGrpSpPr>
        <p:grpSpPr>
          <a:xfrm>
            <a:off x="8191440" y="3141720"/>
            <a:ext cx="849240" cy="1198080"/>
            <a:chOff x="8191440" y="3141720"/>
            <a:chExt cx="849240" cy="1198080"/>
          </a:xfrm>
        </p:grpSpPr>
        <p:sp>
          <p:nvSpPr>
            <p:cNvPr id="1292" name=""/>
            <p:cNvSpPr/>
            <p:nvPr/>
          </p:nvSpPr>
          <p:spPr>
            <a:xfrm flipH="1">
              <a:off x="8224920" y="3141720"/>
              <a:ext cx="457200" cy="4572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8191440" y="3598920"/>
              <a:ext cx="419040" cy="685800"/>
            </a:xfrm>
            <a:custGeom>
              <a:avLst/>
              <a:gdLst>
                <a:gd name="textAreaLeft" fmla="*/ 55800 w 419040"/>
                <a:gd name="textAreaRight" fmla="*/ 363240 w 419040"/>
                <a:gd name="textAreaTop" fmla="*/ 91080 h 685800"/>
                <a:gd name="textAreaBottom" fmla="*/ 594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8340840" y="3646440"/>
              <a:ext cx="179280" cy="35244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46800 h 352440"/>
                <a:gd name="textAreaBottom" fmla="*/ 30564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8424000" y="3862080"/>
              <a:ext cx="616680" cy="447480"/>
              <a:chOff x="8424000" y="3862080"/>
              <a:chExt cx="616680" cy="447480"/>
            </a:xfrm>
          </p:grpSpPr>
          <p:sp>
            <p:nvSpPr>
              <p:cNvPr id="1296" name=""/>
              <p:cNvSpPr/>
              <p:nvPr/>
            </p:nvSpPr>
            <p:spPr>
              <a:xfrm flipH="1" rot="13500000">
                <a:off x="8533080" y="3883320"/>
                <a:ext cx="228240" cy="404640"/>
              </a:xfrm>
              <a:custGeom>
                <a:avLst/>
                <a:gdLst>
                  <a:gd name="textAreaLeft" fmla="*/ 36360 w 228240"/>
                  <a:gd name="textAreaRight" fmla="*/ 191880 w 22824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rot="18900000">
                <a:off x="8743320" y="3870720"/>
                <a:ext cx="180720" cy="404640"/>
              </a:xfrm>
              <a:custGeom>
                <a:avLst/>
                <a:gdLst>
                  <a:gd name="textAreaLeft" fmla="*/ 28800 w 180720"/>
                  <a:gd name="textAreaRight" fmla="*/ 151920 w 180720"/>
                  <a:gd name="textAreaTop" fmla="*/ 64440 h 404640"/>
                  <a:gd name="textAreaBottom" fmla="*/ 340200 h 40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62" y="21600"/>
                    </a:lnTo>
                    <a:lnTo>
                      <a:pt x="3038" y="21600"/>
                    </a:lnTo>
                    <a:close/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 flipH="1" rot="19800000">
              <a:off x="8456760" y="3933720"/>
              <a:ext cx="134640" cy="398880"/>
            </a:xfrm>
            <a:custGeom>
              <a:avLst/>
              <a:gdLst>
                <a:gd name="textAreaLeft" fmla="*/ 17640 w 134640"/>
                <a:gd name="textAreaRight" fmla="*/ 117000 w 134640"/>
                <a:gd name="textAreaTop" fmla="*/ 52920 h 398880"/>
                <a:gd name="textAreaBottom" fmla="*/ 345960 h 39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1600"/>
                  </a:lnTo>
                  <a:lnTo>
                    <a:pt x="2025" y="21600"/>
                  </a:lnTo>
                  <a:close/>
                </a:path>
              </a:pathLst>
            </a:custGeom>
            <a:solidFill>
              <a:srgbClr val="33cc3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5-29T07:52:03Z</dcterms:modified>
  <cp:revision>1</cp:revision>
  <dc:subject>PPT233_シンプルな人マーク</dc:subject>
  <dc:title>PPT233_シンプルな人マーク</dc:title>
</cp:coreProperties>
</file>